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B534-5137-48EB-A9F7-A4264E2E274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808C-F11E-4A7C-8BBF-C2BDC8B8971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ープンな仕様策定プロジェク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仕様の標準化を目指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環境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作業中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現在）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準拠を今後行ってい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コンテナ・フレームワーク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の相互利用が可能にな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-A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ドラフトで幸いに相違がほとんどなかったため、早期実現が可能と思わ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4:57Z</dcterms:modified>
  <cp:revision>41</cp:revision>
  <dc:subject/>
  <dc:title>スライド 1</dc:title>
</cp:coreProperties>
</file>