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1280" y="-1440"/>
            <a:ext cx="2916360" cy="13428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79381-4EA8-4024-A5A2-5AF4DF85C45A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600360" cy="1657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C9C86-5491-47AA-A42C-6B826F6CDCEA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46384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2IoC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への招待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基本機能のすべ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859280" y="4436640"/>
            <a:ext cx="388152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からさわぎ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東京初台 シモモトビル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株式会社グルージェン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栗原 傑享（まさた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http://www.gluegen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003640" y="5661000"/>
            <a:ext cx="140040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24000" y="1125360"/>
            <a:ext cx="6624720" cy="32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ngine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urb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Car(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Size,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urbo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engineSize = engine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turbo = turb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Engine is " + engineSize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cc, " + "turbo:" + turbo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24000" y="4510080"/>
            <a:ext cx="6624720" cy="19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Engin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00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rue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/>
          <p:nvPr/>
        </p:nvCxnSpPr>
        <p:spPr>
          <a:xfrm flipH="1" rot="10800000">
            <a:off x="2122920" y="2817000"/>
            <a:ext cx="2520" cy="2592720"/>
          </a:xfrm>
          <a:prstGeom prst="bentConnector3">
            <a:avLst>
              <a:gd name="adj1" fmla="val -49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250920" y="3500280"/>
            <a:ext cx="1728720" cy="8240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値がコンストラクタ引数に設定され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35640" y="6149880"/>
            <a:ext cx="2881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論理値もそのまま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35640" y="5645160"/>
            <a:ext cx="28796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数値はそのまま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71640" y="1052640"/>
            <a:ext cx="6005520" cy="22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Stereo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List list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rayLis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ddBGM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list.add(bgm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run()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63640" y="3573360"/>
            <a:ext cx="7056360" cy="28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'Spitz'&lt;/arg&gt;&lt;arg&gt;'Iroirokoromo'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Stereo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addBGM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pitz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34" idx="1"/>
            <a:endCxn id="133" idx="1"/>
          </p:cNvCxnSpPr>
          <p:nvPr/>
        </p:nvCxnSpPr>
        <p:spPr>
          <a:xfrm flipH="1" rot="10800000">
            <a:off x="1763280" y="2168640"/>
            <a:ext cx="1008720" cy="2846520"/>
          </a:xfrm>
          <a:prstGeom prst="bentConnector3">
            <a:avLst>
              <a:gd name="adj1" fmla="val -787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324000" y="191628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メソッドが記述引数値で実行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5877000"/>
            <a:ext cx="3708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名で検索でき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の自動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動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書かずとも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が判断して自動初期化をできるかぎり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ポーネントをコンテナが走査して、プロパティを自動設定す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プロパティの型がインターフェイスで、実装コンポーネントが同一コンテナ上に登録されているこ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ストラクタの引数型をしらべ、引数を自動設定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引数型がすべてインターフェイスであるこ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一番引数の多いコンストラクタであるこ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それぞれの引数型のインターフェイスの実装コンポーネントが同一コンテナ上に登録されているこ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動初期化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11280" y="1125360"/>
            <a:ext cx="643896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tutorial.org.seasar.conso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utoChanger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GM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etBGM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bgm =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BGM is " + bgm.getDisplay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26920" y="3933720"/>
            <a:ext cx="7993080" cy="239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'Spitz'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'Iroirokoromo'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AutoChanger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42" idx="1"/>
            <a:endCxn id="141" idx="1"/>
          </p:cNvCxnSpPr>
          <p:nvPr/>
        </p:nvCxnSpPr>
        <p:spPr>
          <a:xfrm flipH="1" rot="10800000">
            <a:off x="825840" y="2456640"/>
            <a:ext cx="1585080" cy="2674080"/>
          </a:xfrm>
          <a:prstGeom prst="bentConnector3">
            <a:avLst>
              <a:gd name="adj1" fmla="val -1442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50920" y="213372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はプロパティ設定の記述がないが、自動設定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動初期化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11280" y="1125360"/>
            <a:ext cx="643896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tutorial.org.seasar.conso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utoChanger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GM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utoChangerCar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bgm =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BGM is " + bgm.getDisplay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26920" y="3933720"/>
            <a:ext cx="7993080" cy="239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'Spitz'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'Iroirokoromo'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AutoChanger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7" idx="1"/>
            <a:endCxn id="146" idx="1"/>
          </p:cNvCxnSpPr>
          <p:nvPr/>
        </p:nvCxnSpPr>
        <p:spPr>
          <a:xfrm flipH="1" rot="10800000">
            <a:off x="825840" y="2456640"/>
            <a:ext cx="1585080" cy="2674080"/>
          </a:xfrm>
          <a:prstGeom prst="bentConnector3">
            <a:avLst>
              <a:gd name="adj1" fmla="val -1442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0920" y="213372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はコンストラクタ引数設定の記述がないが、自動設定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ライフサイク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初期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ype2 / Type3 / Type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駆使して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終了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Container#destroy(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って、全登録コンポーネントの終了化メソッドの呼び出しを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による設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インスタンスモー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モードの場合のみ、終了化メソッドが有効になる。→ 後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05080" y="1916280"/>
            <a:ext cx="7343640" cy="21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GoBack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run()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comeBack(Date back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impleDateFormat fmt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impleDateForma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HH:mm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“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I have come back at 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+ fmt.format(back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13080" y="4275000"/>
            <a:ext cx="6335640" cy="224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GoHom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destroyMetho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comeBack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ew java.util.Date(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destroy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184720" y="5791320"/>
            <a:ext cx="3708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new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オブジェクト生成でき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6" name=""/>
          <p:cNvCxnSpPr>
            <a:stCxn id="154" idx="1"/>
            <a:endCxn id="153" idx="1"/>
          </p:cNvCxnSpPr>
          <p:nvPr/>
        </p:nvCxnSpPr>
        <p:spPr>
          <a:xfrm rot="10800000">
            <a:off x="1404360" y="2996640"/>
            <a:ext cx="1008720" cy="2404080"/>
          </a:xfrm>
          <a:prstGeom prst="bentConnector3">
            <a:avLst>
              <a:gd name="adj1" fmla="val 12267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7" name=""/>
          <p:cNvSpPr/>
          <p:nvPr/>
        </p:nvSpPr>
        <p:spPr>
          <a:xfrm>
            <a:off x="250920" y="4437000"/>
            <a:ext cx="1728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itMethod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と同様に、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に記述されたメソッドが記述引数値で実行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49760" y="1125360"/>
            <a:ext cx="3198960" cy="5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ntainer.destroy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9640" y="1341360"/>
            <a:ext cx="5256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アプリケーション終了時に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2Container#destroy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の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中のエレメントボディ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記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init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および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属性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記述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rg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を記述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 →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ystem.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 → 自コンポーネン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他、コンポーネント名が使用でき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8360" y="2276640"/>
            <a:ext cx="8353440" cy="24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GoHom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ut.println('Enjoy shopping!'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destroyMethod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is.comeBack(new java.util.Date()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destroy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47640" y="5661000"/>
            <a:ext cx="7201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&l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トネント名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.&l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メソッド名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(&l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引数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メソッド実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3131640" y="3933720"/>
            <a:ext cx="792360" cy="93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3059280" y="1844640"/>
            <a:ext cx="223344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43280" y="1484280"/>
            <a:ext cx="30956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」で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ystem.o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564000" y="4869000"/>
            <a:ext cx="3708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his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」で自コンポーネントを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インスタンスモー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1052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生成を誰が行う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が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およ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クライアントで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保持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の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終了化メソッ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826920" y="4437000"/>
          <a:ext cx="7848720" cy="2073240"/>
        </p:xfrm>
        <a:graphic>
          <a:graphicData uri="http://schemas.openxmlformats.org/drawingml/2006/table">
            <a:tbl>
              <a:tblPr/>
              <a:tblGrid>
                <a:gridCol w="2089440"/>
                <a:gridCol w="2879640"/>
                <a:gridCol w="28796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ance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モー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ンポーネント生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ンポーネント保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let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のた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終了化メソッド有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o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で生成のた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属性が任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445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の一種。軽量コンテナ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Lightweight 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とも言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この分野を適切に指し示す用語がまだ定まってい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最新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開発メソッドであ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nversion of Control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略。制御の逆転を意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制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オブジェクト生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オブジェクトの設定（初期化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逆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テナがオブジェクト生成に責任を持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オブジェクトのプロパティ等の設定をコンテナが行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クライアントはインターフェイスで受けて実装す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ject Depend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外部でコンポーネントを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ではコンストラクタを実行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の初期は行え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機能が使え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外部でコンポーネント保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ではコンポーネントを保持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終了化メソッドが動作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初期化のみ行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よるプロパティ設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よるメソッド呼び出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コンテナに登録されているコンポーネントを利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自動設定が動作。これが最も有用なポイン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ject Dependenc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301760" y="1341360"/>
            <a:ext cx="7446960" cy="25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Factory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xml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 main(String[] arg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UnderConstructionCa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ntainer.injectDependency(ca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301760" y="4492800"/>
            <a:ext cx="7416720" cy="188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instance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outer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   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class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tutorial.org.seasar.console.UnderConstructionCar"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name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engine"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'SOHC-V12 Twin turbo'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/compon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780000" y="3141720"/>
            <a:ext cx="3960720" cy="10674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型のほか、名前でも設定を検索でき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, cla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, Str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59640" y="2478240"/>
            <a:ext cx="2233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イアントで生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300720" y="4724280"/>
            <a:ext cx="1800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lass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は任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コンポーネント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生成を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で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initMethod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同様だが、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や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は使えない。→ ここでは生成処理のみを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ストラクターによる生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ァクトリメソッド（オブジェクト）による生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コンポーネント生成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258920" y="2546280"/>
            <a:ext cx="7200720" cy="21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ed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ew tutorial.org.seasar.console.PaintedCar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bodyColo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'red'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71640" y="1341360"/>
            <a:ext cx="33112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は型で取得できないために、必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am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の設定が必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5070600"/>
            <a:ext cx="4392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yp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２、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yp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４による初期化が可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24360" y="5718240"/>
            <a:ext cx="4392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ingleton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あれば終了化メソッドも可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ooManyReg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oManyRegistrationRuntime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同インターフェイスを実装の複数コンポーネ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同じ名前で登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ポーネント取得時に例外発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解決には名前空間を利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3068640"/>
            <a:ext cx="821052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Tahoma"/>
                <a:ea typeface="ＭＳ ゴシック"/>
              </a:rPr>
              <a:t>class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  <a:ea typeface="ＭＳ ゴシック"/>
              </a:rPr>
              <a:t>"tutorial.org.seasar.console.HelloCar"</a:t>
            </a:r>
            <a:r>
              <a:rPr b="1" lang="ja-JP" sz="1600" spc="-1" strike="noStrike">
                <a:solidFill>
                  <a:srgbClr val="7f007f"/>
                </a:solidFill>
                <a:latin typeface="Tahoma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Tahoma"/>
              </a:rPr>
              <a:t>class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</a:rPr>
              <a:t>"tutorial.org.seasar.console.GoodbyCar"</a:t>
            </a:r>
            <a:r>
              <a:rPr b="1" lang="ja-JP" sz="1600" spc="-1" strike="noStrike">
                <a:solidFill>
                  <a:srgbClr val="7f007f"/>
                </a:solidFill>
                <a:latin typeface="Tahoma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5280" y="4869000"/>
            <a:ext cx="821052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ＭＳ ゴシック"/>
              </a:rPr>
              <a:t>name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  <a:ea typeface="ＭＳ ゴシック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lass="tutorial.org.seasar.console.HelloCa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ja-JP" sz="1600" spc="-1" strike="noStrike">
                <a:solidFill>
                  <a:srgbClr val="009900"/>
                </a:solidFill>
                <a:latin typeface="Tahoma"/>
              </a:rPr>
              <a:t>name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class="tutorial.org.seasar.console.Anothe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524720" y="3500280"/>
            <a:ext cx="1440000" cy="5202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どちらも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していて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524720" y="5229360"/>
            <a:ext cx="1440000" cy="5202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同じ名前で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つ登録していて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名前空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アプリケーションが大きくなったと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肥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の名前が衝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oManyRegistrationRuntime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分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include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による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分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components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amesp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ごとにコンポーネント名前空間を設定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名前空間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]:[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名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、コロンで接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前空間を利用した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124000" y="1555920"/>
            <a:ext cx="662472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1 = (Car)container.getComponen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car:paintedCar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2 = (Car)container.getComponen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other:paintedCar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4000" y="2563920"/>
            <a:ext cx="8424720" cy="19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spac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/org/seasar/console/other.xml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“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property name="bodyColor"&gt;'red'&lt;/propert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4000" y="4795920"/>
            <a:ext cx="842472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spac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othe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“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property name="bodyColor"&gt;'yellow'&lt;/propert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0" y="4869000"/>
            <a:ext cx="2233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別の名前空間を指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003640" y="2421000"/>
            <a:ext cx="3816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clud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他の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をマージす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5280" y="1052640"/>
            <a:ext cx="403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名前空間を指定してコンポーネント取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＆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何かご質問はございます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リソー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マニュア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チュートリア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リン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ourceforge.j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-user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てなダイアリ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類似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pring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xpert One-onOne J2EE Design and Developmen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」（邦題：実践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ステムデザイン）著者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od Jhons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Boss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Bos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次期バージョン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.0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ベースとなってい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ve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apestr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作者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oward Lewis Shi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akarta Common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ブプロジェク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icoCont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の中心であるコンテ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ブートストラップを別途必要と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既存フレームワーク等に組み込みで使うことを想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コンポーネント登録・設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ード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ov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クライアントへのコンポーネント提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現在は同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上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/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形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でのサービス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Remoting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を通して行う予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5899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JO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e Old Java Objec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「平凡な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オブジェクト」の意味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ache Avalon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ように、コンテナに載せるために特別なインターフェイスを実装する必要なし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インターフェイ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クライアントがコンポーネント取得する際に、コンポーネントが実装するインターフェイスをキーとしてコンテナ上を検索す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公開するメソッドは、インターフェイスで定義する。クライアントはインターフェイスを介してメソッド呼び出しを行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しかし、強制ではな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コンストラク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デフォルトコンストラクタがなくても良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コンストラクタがなくても、インスタンス生成さえできれば良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プロパテ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aBeans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仕様のプロパティでステート管理を行うと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便利な機能が利用でき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しかし、強制ではな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5873760"/>
            <a:ext cx="8642160" cy="3988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何らかの手段でインスタンス生成できれば、どんな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ava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スでも良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取得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92360" y="1484280"/>
            <a:ext cx="727236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Highwa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xml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(Car)container.getComponent(Car.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92360" y="5373720"/>
            <a:ext cx="489564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HelloCar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Car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My first car!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92360" y="3932280"/>
            <a:ext cx="7272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Hello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4365360" y="4724280"/>
            <a:ext cx="406440" cy="64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300720" y="2924280"/>
            <a:ext cx="822240" cy="136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1280" y="1197000"/>
            <a:ext cx="698508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インターフェイス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参照のみで、コンポーネントの実際の型に縛られていな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148360" y="3357720"/>
            <a:ext cx="331308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するコンポーネントを検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5805360"/>
            <a:ext cx="129672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JO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あ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99" idx="1"/>
            <a:endCxn id="101" idx="1"/>
          </p:cNvCxnSpPr>
          <p:nvPr/>
        </p:nvCxnSpPr>
        <p:spPr>
          <a:xfrm flipH="1" flipV="1" rot="10800000">
            <a:off x="1692000" y="2528640"/>
            <a:ext cx="2160" cy="1945440"/>
          </a:xfrm>
          <a:prstGeom prst="bentConnector3">
            <a:avLst>
              <a:gd name="adj1" fmla="val -144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>
            <a:off x="250920" y="3645000"/>
            <a:ext cx="129672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設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43640" y="5533920"/>
            <a:ext cx="144144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前による検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79640" y="1916280"/>
            <a:ext cx="676908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Highwa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xml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(Car)container.getComponent(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08000" y="4795920"/>
            <a:ext cx="676944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9999"/>
                </a:solidFill>
                <a:latin typeface="ＭＳ ゴシック"/>
                <a:ea typeface="ＭＳ ゴシック"/>
              </a:rPr>
              <a:t>name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tutorial.org.seasar.console.HelloCar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076720" y="3355920"/>
            <a:ext cx="2046240" cy="201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4221000"/>
            <a:ext cx="244944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名で検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00000" y="1125360"/>
            <a:ext cx="727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スキャストの際の例外の危険があるために、基本的にはインターフェイス型で取得するほうが推奨される。しかし、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既存の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オブジェクトがインターフェイスを実装していない場合に、特に有効であ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の初期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設定に従い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が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プロパティ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コンストラクタ引数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コンポーネントメソッド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オリジナ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24000" y="1268280"/>
            <a:ext cx="6797880" cy="309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PaintedCar implements Car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tring color = 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blue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etBodyColor(String color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color = col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My body color is " + colo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24000" y="4581360"/>
            <a:ext cx="676908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bodyColo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'red'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20" idx="1"/>
            <a:endCxn id="119" idx="1"/>
          </p:cNvCxnSpPr>
          <p:nvPr/>
        </p:nvCxnSpPr>
        <p:spPr>
          <a:xfrm flipH="1" rot="10800000">
            <a:off x="2122920" y="2817000"/>
            <a:ext cx="2520" cy="2592720"/>
          </a:xfrm>
          <a:prstGeom prst="bentConnector3">
            <a:avLst>
              <a:gd name="adj1" fmla="val -49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250920" y="3500280"/>
            <a:ext cx="1728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プロパティ値が設定され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63640" y="1052640"/>
            <a:ext cx="547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生成時に、プロパティが設定され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59280" y="5950080"/>
            <a:ext cx="3816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文字列はシングルクォートで囲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Masataka Kurihara</cp:lastModifiedBy>
  <dcterms:modified xsi:type="dcterms:W3CDTF">2004-04-09T07:09:30Z</dcterms:modified>
  <cp:revision>87</cp:revision>
  <dc:subject/>
  <dc:title>スライド 1</dc:title>
</cp:coreProperties>
</file>