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5560" y="25560"/>
            <a:ext cx="3466800" cy="12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© 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1F99D-2B2F-4F95-975C-2FCD2AF4932B}" type="slidenum">
              <a:rPr b="1" lang="ja-JP" sz="9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981000"/>
            <a:ext cx="4762440" cy="171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© 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4B485-D642-48CD-9C76-0931F2230628}" type="slidenum">
              <a:rPr b="1" lang="ja-JP" sz="9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2463480"/>
            <a:ext cx="86547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2.NET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砂上の楼閣で野望を叫ぶ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ja-JP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5.07.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asar Sandbox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ja-JP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佐藤　太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96720"/>
            <a:ext cx="57639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己紹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53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名前：佐藤　太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ブログ：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d.hatena.ne.jp/taichitaichi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ｱﾔｼｲ思いつきがある時と、考えをまとめたい時に書いてま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何故か、色々不思議な事に立ち会いま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以上の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J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1.0 →2.0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バージョンアッ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システムを開発している筈なのに、自分だけ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tiveX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を開発した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最近、原点回帰とも言える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REW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な開発してま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もっと色々知りたい方は、この後の宴会に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96720"/>
            <a:ext cx="57639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2.NE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248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ttp://s2dotnet.oscj.net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2.NE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何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T Framework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上で動作する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実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テスト用モックアスペク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トランザクション管理アスペク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ァイルは同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タグは一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式言語は、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なく、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Script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埋め込みリソース、外部リソース共に扱え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インの実装者は、杉本和也さ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ブログ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kamedan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96720"/>
            <a:ext cx="57639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現在の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2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0344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が動作しており、既に実案件に投入されていま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プリケーション＋バ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P.NE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システ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ミッタ不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そもそも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コミュニティは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なエンジニア主体なので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な人は中々居ない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T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膨大で、かつ、ポリシーもキチンとあるプラットフォームなのに２人ではキツ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知らない事が多く、かなり試行錯誤を繰り返してま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96720"/>
            <a:ext cx="57639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2.NE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未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248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2ADO.NE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2JDBC,S2DAO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相当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2DAO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、あると生産性が根本的に違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O.NE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、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クセスも出来るが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2ASP.NET(S2JSF,S2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相当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P.NE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、相当開発し易いので、どう折り合いをつけるか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2Remoting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P.NE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は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moting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部分もあ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2Container 4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新機能の実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の自動登録はあると便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96720"/>
            <a:ext cx="57639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2.NE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未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248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terpriseLibrary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対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日本語の情報が少し少ない気がするので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isualStudio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プラグイ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ijimuna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ァイルのビジュアルエディタプラグイ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U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プリケーションのイベントインジェク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ォームデザイナから、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に登録されたコンポーネントとイベントを紐付け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ftware Factorie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対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がこれからリリースするであろう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ftware Factorie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対応ツールを、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用に拡張す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96720"/>
            <a:ext cx="57639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皆さんへの要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8156520" cy="23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まずは、使ってみて欲し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そして、開発に参加して欲し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いうか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4114800"/>
            <a:ext cx="8001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助けて下さい！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58920" y="396720"/>
            <a:ext cx="57639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248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2.NE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版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asar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足りない事は多いけれど、やりたい事や夢はイッパイで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まずは、メーリングリストにご参加下さ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lists.sourceforge.jp/mailman/listinfo/seasar-s2dot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ブログへのトラックバックもお待ちしておりま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羽生　章洋</cp:lastModifiedBy>
  <dcterms:modified xsi:type="dcterms:W3CDTF">2005-07-13T07:47:17Z</dcterms:modified>
  <cp:revision>11</cp:revision>
  <dc:subject/>
  <dc:title>S2.NET ～砂上の楼閣で野望を叫ぶ！</dc:title>
</cp:coreProperties>
</file>