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15138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115920"/>
            <a:ext cx="2916360" cy="120312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4267080" y="6642000"/>
            <a:ext cx="4419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-2005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619280" y="907920"/>
            <a:ext cx="752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267080" y="6597720"/>
            <a:ext cx="4876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97A90-FD92-471C-81D4-B4932FE7025E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50920" y="1147680"/>
            <a:ext cx="4124160" cy="17049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340000" y="2349360"/>
            <a:ext cx="680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343400" y="6642000"/>
            <a:ext cx="4419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-2005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419720" y="6597720"/>
            <a:ext cx="4724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12B5C-B92F-4783-A8A2-153E4D59150F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seasar.org/maya" TargetMode="External"/><Relationship Id="rId2" Type="http://schemas.openxmlformats.org/officeDocument/2006/relationships/hyperlink" Target="http://www.seasar.org/maya" TargetMode="Externa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S2JSF</a:t>
            </a:r>
            <a:br>
              <a:rPr sz="4400"/>
            </a:b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55600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Yasuwo Hi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The Seasar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feature of S2JSF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template of the page is HTML, not JS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milar to Tapest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yout solution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milar to T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advantage of 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firmation of layout is eas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operation with designer is eas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TML Templat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The tag of HTML is converted to the tag of JSF at run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HTML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span m:value="#{bean.property}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JSF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h:outputText value=" #{bean.property}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specify the tag explicitly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span m:inject="h:messages" m:globalOnly="true" m:class="error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yout solu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milar to T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re intuitive and easy-to-u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yout.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able border="0" cellspacing="5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colspan="2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src="/WEB-INF/layout/header.html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width="140" valign="top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src="/WEB-INF/layout/menu.html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valign="top" align="left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name="body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abl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ello.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html xmlns:m="</a:t>
            </a:r>
            <a:r>
              <a:rPr b="0" lang="ja-JP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easar.org/</a:t>
            </a:r>
            <a:r>
              <a:rPr b="0" lang="ja-JP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maya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m:extends="/WEB-INF/layout/layout.html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bod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span m:inject="s:insert" m:name="body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Hello &lt;span m:value="#{message}"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spa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bod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htm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clu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SF becomes more ease to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template of the page is HTM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yout solu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reference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160" y="1197000"/>
            <a:ext cx="838044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Yasuwo Hi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higayasuwo.cocolog-nifty.com/blog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iga@isid.co.j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.org(Japane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www.seasar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 Project(Japane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sourceforge.jp/projects/seas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6T13:58:08Z</dcterms:created>
  <dc:creator>Masataka Kurihara</dc:creator>
  <dc:description/>
  <dc:language>en-US</dc:language>
  <cp:lastModifiedBy>higa</cp:lastModifiedBy>
  <dcterms:modified xsi:type="dcterms:W3CDTF">2005-03-07T11:13:07Z</dcterms:modified>
  <cp:revision>125</cp:revision>
  <dc:subject/>
  <dc:title>スライド 1</dc:title>
</cp:coreProperties>
</file>