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E89B-AE51-45FF-9D23-968C351E4335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9114-733B-4CD6-84C5-1700B2972CCD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Kuina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が魅せる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の近未来</a:t>
            </a:r>
            <a:br>
              <a:rPr sz="4400"/>
            </a:b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ひがやす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電通国際情報サービ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olumn(name="ENAME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ring getEmployeeName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e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Id(generate=SEQU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nerator="EMPID_SEQ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getId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i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Vers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getVersion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vers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ransi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Trans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getHoge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hog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: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116080"/>
            <a:ext cx="312444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1752480"/>
            <a:ext cx="38102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artment_id(F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neToMan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Department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OneToMany(mappedBy="department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s = new HashSe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yToOn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ManyTo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JoinColumn(name="DEPARTMENT_ID"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ferencedColumnName="ID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Department departmen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olumn(name="DEPARTMENT_ID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int departmentI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: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905120"/>
            <a:ext cx="312408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1905120"/>
            <a:ext cx="381024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3581280"/>
            <a:ext cx="3733920" cy="280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_Employ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s_id(F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s_id(F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yToMan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own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990360"/>
            <a:ext cx="82310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roject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ManyTo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AssociationTable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able=@Table(name="PROJECT_EMPLOYEE"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Columns={@JoinCololumn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ame="PROJECTS_ID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ferencedColumnName="ID")}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nverseJoinColumns={@JoinColumn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ame="EMPLOYEES_ID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ferencedColumnName="ID")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Collection&lt;Employe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s = new HashSe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yToMan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ManyToMany(mappedBy="employees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Collection&lt;Projec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jects = new HashSe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って本当に使いやすい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前のバージョンと比べる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実装がシンプルになっ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アノテーションにより見通しがよくなっ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導入により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JNDI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をルックアップする必要がなくなっ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condaryTabl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SecondaryTable(name=“DEPARTMEN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JoinColumn(name="DEPARTMENT_ID"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ferencedColumnName="ID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olumn(name="DNAME"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condaryTable="DEPARTMENT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String department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uina 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078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アスペクトによる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JBQL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の実装コードの自動生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2Way SQ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条件によって変わる動的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uinaDaoInter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clude path=“kuina.dicon”/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“…EmployeeDao”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spec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kuina.daoInter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全件取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 getEmployees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id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 getEmployeeById(int id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employeeid 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job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Job(String job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job 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sal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Salary(BigDecimal sal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sal &gt;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CriterionT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Q(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デフォルト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ename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LI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keType=LikeType.B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Ename(String enam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ename LIKE %?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LikeT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BOTH(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デフォルト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って本当に使いやすい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でも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アプリケーションサーバにデプロイしないと基本的にテストできな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機能も未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s(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sal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GE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sal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LE)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SalaryFromTo(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igDecimal salFrom, BigDecimal salTo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sal &gt;= ?1 AND sal &lt;= ?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引数による動的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alFrom not null, salTo not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WHERE salFrom &gt;= ?1</a:t>
            </a:r>
            <a:br>
              <a:rPr sz="3200"/>
            </a:b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  AND salTo &lt;= ?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alFrom not null, salTo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WHERE salFrom &gt;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alFrom null, salTo not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WHERE salTo &lt;= ?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alFrom null, salTo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句な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T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条件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SearchDto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ename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LI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keType=LikeType.B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String employee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T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条件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Dto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SearchDto dto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条件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キーはカラム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値は検索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条件は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CriterionType.E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&lt;T&gt;T merge(T entit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persistence context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に関連付けられていない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persistence context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に関連付け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insert,updat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が実際に行われるのはトランザクションがコミットされる直前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関連オブジェクトも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され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cascade=MERGE 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void remove(Object entit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removed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な状態にす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が実際に行われるのはトランザクションがコミットされる直前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関連オブジェクトも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remov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され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cascade=REMOVE 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Que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NamedQuery(queryString="SELECT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FROM Department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 FETCH d.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d.id = ?1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epartment getDepartment(int id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Que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外部ファイル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218960"/>
            <a:ext cx="8231040" cy="52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クラス名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getDepartment.ejb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FROM Department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 FETCH d.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d.id 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Way S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外部ファイル化した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ファイル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QL*Plus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等のツールでそのまま実行でき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NamedQuery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アノテーションの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queryString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としても使え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開発者と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開発者の分業が可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私からのメッセー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テストしにくい開発環境・フレームワークなんかくそくら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実装の正しさはテストによってのみ確かめられ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バインド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_getEmployee.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id = /*?1*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 getEmployee(int id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バインド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job IN /*?1*/('CLERK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 getEmployees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tring[] job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埋め込み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id = /*$1*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に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を渡すとバインド変数ではなく文字として値が埋め込まれ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id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job = 'CLERK'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IF ?1 != null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al &gt;= /*?1*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END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EGI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BEGIN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IF ?1 != null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b = /*?1*/'CLERK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END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IF ?2 != null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ND sal &gt;= /*?2*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END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END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uina 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clipse Plu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Mode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ao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QL Cons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ベースとなる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OneToMany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econdaryTabl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RelationShip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グラフィック表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と連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との差異チェック・同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リファクタリングサポー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DL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出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各種データベースサポー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aoM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メソッド作成支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による検索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remov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の自動作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特定のカラム、検索用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DTO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での検索のウィザー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検索用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TO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作成支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テスト支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KuinaUnit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のテストコードの自動作成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テスト用の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データの自動作成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QL Consol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との連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 Cons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JBQL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実行環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テーブル名、エンティティ名、カラム名、プロパティ名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JBS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の補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検索結果を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表示し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から直接データの更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に表示されたデータを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CSV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に保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aoMaker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との連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自動生成される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JB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NamedQuery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外部ファイルを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Consol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に表示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Consol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JB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NamedQuery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外部ファイルに保存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って本当にだ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はよくできてい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TopLink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JDO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仕様をさらに洗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シンプルで覚えやす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アノテーションの記述量も最小限になるように工夫されてい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マルチデータベース間のデータ移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CSV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へのエクスポート、インポー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ご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ひがやす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d.hatena.ne.jp/higayasuo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Seasar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たいす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取り組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は採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MessageDrivenBea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は状況しだ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それら以外は不採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IContainer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上で動か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uin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Kuina C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実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Kuina D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Kuina Stu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Kuina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clipse Plugin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Table(name=“EMP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4-22T02:19:17Z</dcterms:modified>
  <cp:revision>187</cp:revision>
  <dc:subject/>
  <dc:title>スライド 1</dc:title>
</cp:coreProperties>
</file>