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25560" y="25560"/>
            <a:ext cx="3466800" cy="12492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427640" y="6597720"/>
            <a:ext cx="4464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the others 2005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00720" y="6597720"/>
            <a:ext cx="4643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7DFC7-9FB7-42C4-AED6-D45447D356FA}" type="slidenum">
              <a:rPr b="1" lang="ja-JP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57200" y="981000"/>
            <a:ext cx="4762440" cy="1714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427640" y="6597720"/>
            <a:ext cx="4464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the others 2005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00720" y="6597720"/>
            <a:ext cx="4643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428E2-1090-4BBE-A351-765DF27BD1D9}" type="slidenum">
              <a:rPr b="1" lang="ja-JP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Seasar Strategies Day 2005</a:t>
            </a:r>
            <a:br>
              <a:rPr sz="4400"/>
            </a:b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Ope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The Seasar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2005.4.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2005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年の成果と課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成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JSF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リリー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i18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進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課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運営体制の整備とさらなるスタッフ増員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（特に、インフラ系・ドキュメント系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より一層の認知向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国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海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実務適用への安心性向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支援体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学習支援（勉強会の開催やドキュメント拡充など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課題達成に向けて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つの戦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866880" y="2362320"/>
            <a:ext cx="7467480" cy="403848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tnership Strateg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009880" y="3733920"/>
            <a:ext cx="5181480" cy="259056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ject Strateg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191040" y="4815000"/>
            <a:ext cx="2819160" cy="1447560"/>
          </a:xfrm>
          <a:prstGeom prst="ellipse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rateg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52280" y="1371600"/>
            <a:ext cx="2590920" cy="6094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125981"/>
              <a:gd name="adj5" fmla="val 213282"/>
              <a:gd name="adj6" fmla="val 15717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ユーザに対する商用サポート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プロジェクト運営へのサポート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52280" y="3429000"/>
            <a:ext cx="2590920" cy="380880"/>
          </a:xfrm>
          <a:prstGeom prst="borderCallout2">
            <a:avLst>
              <a:gd name="adj1" fmla="val 18750"/>
              <a:gd name="adj2" fmla="val -8333"/>
              <a:gd name="adj3" fmla="val 30000"/>
              <a:gd name="adj4" fmla="val 115930"/>
              <a:gd name="adj5" fmla="val 202500"/>
              <a:gd name="adj6" fmla="val 13345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運営体制の確立・整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58000" y="4786200"/>
            <a:ext cx="2133720" cy="533520"/>
          </a:xfrm>
          <a:prstGeom prst="borderCallout2">
            <a:avLst>
              <a:gd name="adj1" fmla="val 18750"/>
              <a:gd name="adj2" fmla="val -8333"/>
              <a:gd name="adj3" fmla="val 21430"/>
              <a:gd name="adj4" fmla="val -23138"/>
              <a:gd name="adj5" fmla="val 161606"/>
              <a:gd name="adj6" fmla="val -5580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新プロダクトの開発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ドキュメントの整備・拡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本日のテー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66880" y="2362320"/>
            <a:ext cx="7467480" cy="403848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tnership Strateg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009880" y="3733920"/>
            <a:ext cx="5181480" cy="259056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ject Strateg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191040" y="4815000"/>
            <a:ext cx="2819160" cy="1447560"/>
          </a:xfrm>
          <a:prstGeom prst="ellipse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rateg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52280" y="1371600"/>
            <a:ext cx="2895840" cy="6094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118750"/>
              <a:gd name="adj5" fmla="val 213282"/>
              <a:gd name="adj6" fmla="val 14062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電通国際情報サービス様との協力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OSCJ</a:t>
            </a: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への参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52280" y="3429000"/>
            <a:ext cx="2590920" cy="380880"/>
          </a:xfrm>
          <a:prstGeom prst="borderCallout2">
            <a:avLst>
              <a:gd name="adj1" fmla="val 18750"/>
              <a:gd name="adj2" fmla="val -8333"/>
              <a:gd name="adj3" fmla="val 30000"/>
              <a:gd name="adj4" fmla="val 115930"/>
              <a:gd name="adj5" fmla="val 202500"/>
              <a:gd name="adj6" fmla="val 13345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NPO</a:t>
            </a: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設立に向け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705720" y="4800600"/>
            <a:ext cx="2286000" cy="533520"/>
          </a:xfrm>
          <a:prstGeom prst="borderCallout2">
            <a:avLst>
              <a:gd name="adj1" fmla="val 18750"/>
              <a:gd name="adj2" fmla="val -8333"/>
              <a:gd name="adj3" fmla="val 21430"/>
              <a:gd name="adj4" fmla="val -24097"/>
              <a:gd name="adj5" fmla="val 158930"/>
              <a:gd name="adj6" fmla="val -5208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Kuina</a:t>
            </a: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EJB3.0</a:t>
            </a: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への対応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04:58:21Z</dcterms:created>
  <dc:creator>羽生　章洋</dc:creator>
  <dc:description/>
  <dc:language>en-US</dc:language>
  <cp:lastModifiedBy>羽生　章洋</cp:lastModifiedBy>
  <dcterms:modified xsi:type="dcterms:W3CDTF">2005-04-21T05:43:52Z</dcterms:modified>
  <cp:revision>30</cp:revision>
  <dc:subject/>
  <dc:title>Seasar Strategies Day 2005 Opening</dc:title>
</cp:coreProperties>
</file>