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0BDA-9109-44BA-BDCE-FB44DDD02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2668-7301-45FB-BA97-690BC8096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E472-F77C-4C4A-A444-8F1044998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74D9-CDD5-4B68-BA22-85129031D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7D50-C8E1-46D9-BC24-4244B0879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49F4-45FF-495C-A10C-5657AFE7F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F5F3-B69C-4D67-BAC3-59FFF9F26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974A-E1DF-4C03-8641-94688EECD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CC9F-514D-43A2-84FF-6A66CF997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7C06-0D75-4276-AE36-CDC3D33EF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1D36-8287-4C14-8EFA-9BF94E579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1301-13B9-408E-84EC-F30D2725D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A3E8B-BEFA-4982-A0EF-6518AF356F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フロー制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1480" y="1341360"/>
            <a:ext cx="122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使用中およびログ採取時は、バッファへ格納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フルになると、最古のデータから上書きされ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で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の中身を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すべて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クロ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）へ送信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データをすべてリングバッファとして保存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661000"/>
            <a:ext cx="3744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コマンド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ync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、同期されるのは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マクロ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通信間のみ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から大量にパケットが送られてき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きは、データの取りこぼしが発生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1T13:09:57Z</dcterms:modified>
  <cp:revision>157</cp:revision>
  <dc:subject/>
  <dc:title>DDEのしくみ</dc:title>
</cp:coreProperties>
</file>