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ABE2-5E37-457E-99F9-F60F1A829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1251-1BE1-4AB8-A1E5-B528C7D22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2DE2-DC1C-43C7-A1FF-7043D45D2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0D5C-60BC-4C39-99BC-6750EE111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15D8-428B-4839-88DE-6872DCDCA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92E1-D481-489B-8CED-AA8D2244C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0519-D6E6-4017-9127-1BB603BEC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D908-65DE-4428-BC63-8529F33D8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B2E8-EF6F-42BE-9F9E-69064E4A1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81F2-3822-4068-A2FC-16491A1B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2829-62E5-4650-B55E-BF2C8522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FB4D-619B-4CB9-92D7-6E2A67F92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0F695-14AE-47F5-8A14-FCFAA8A6BD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疑似端末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134136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p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t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1341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1557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836640"/>
            <a:ext cx="1008000" cy="576360"/>
          </a:xfrm>
          <a:prstGeom prst="wedgeRoundRectCallout">
            <a:avLst>
              <a:gd name="adj1" fmla="val -43384"/>
              <a:gd name="adj2" fmla="val 706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pty(3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で疑似端末を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2565360"/>
            <a:ext cx="669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549360"/>
            <a:ext cx="0" cy="590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105264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22766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2637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カーネル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997360"/>
            <a:ext cx="1152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スター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mas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7280" y="2997360"/>
            <a:ext cx="115236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スレーブ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sla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221000"/>
            <a:ext cx="115236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端末ライ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ィシプリ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_T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364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3357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692280"/>
            <a:ext cx="3457440" cy="433080"/>
          </a:xfrm>
          <a:custGeom>
            <a:avLst/>
            <a:gdLst/>
            <a:ahLst/>
            <a:rect l="l" t="t" r="r" b="b"/>
            <a:pathLst>
              <a:path w="2178" h="273">
                <a:moveTo>
                  <a:pt x="91" y="273"/>
                </a:moveTo>
                <a:cubicBezTo>
                  <a:pt x="45" y="182"/>
                  <a:pt x="0" y="91"/>
                  <a:pt x="136" y="46"/>
                </a:cubicBezTo>
                <a:cubicBezTo>
                  <a:pt x="272" y="1"/>
                  <a:pt x="606" y="0"/>
                  <a:pt x="908" y="0"/>
                </a:cubicBezTo>
                <a:cubicBezTo>
                  <a:pt x="1210" y="0"/>
                  <a:pt x="1739" y="1"/>
                  <a:pt x="1951" y="46"/>
                </a:cubicBezTo>
                <a:cubicBezTo>
                  <a:pt x="2163" y="91"/>
                  <a:pt x="2170" y="182"/>
                  <a:pt x="2178" y="2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260280"/>
            <a:ext cx="1152720" cy="576360"/>
          </a:xfrm>
          <a:prstGeom prst="wedgeRoundRectCallout">
            <a:avLst>
              <a:gd name="adj1" fmla="val -73689"/>
              <a:gd name="adj2" fmla="val 453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子プロセスとして起動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80000" y="1844640"/>
            <a:ext cx="79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t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80000" y="2276640"/>
            <a:ext cx="792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200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2708280"/>
            <a:ext cx="792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200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4005360"/>
            <a:ext cx="25207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 c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450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357720"/>
            <a:ext cx="2521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1557360"/>
            <a:ext cx="144720" cy="2872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03280" y="1484280"/>
            <a:ext cx="86364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1844640"/>
            <a:ext cx="792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n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93080" y="2276640"/>
            <a:ext cx="792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134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2472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2472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2472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2708280"/>
            <a:ext cx="7920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2472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2472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5734080"/>
            <a:ext cx="1368360" cy="214200"/>
          </a:xfrm>
          <a:prstGeom prst="leftRightArrow">
            <a:avLst>
              <a:gd name="adj1" fmla="val 50000"/>
              <a:gd name="adj2" fmla="val 127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5661000"/>
            <a:ext cx="1152360" cy="214200"/>
          </a:xfrm>
          <a:prstGeom prst="leftRightArrow">
            <a:avLst>
              <a:gd name="adj1" fmla="val 50000"/>
              <a:gd name="adj2" fmla="val 1070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9-07T11:23:16Z</dcterms:modified>
  <cp:revision>412</cp:revision>
  <dc:subject/>
  <dc:title>DDEのしくみ</dc:title>
</cp:coreProperties>
</file>