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F8BD-BDBF-435C-A786-E085B2587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8BC7-72DB-4B3B-891C-A435C57B1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EB3F-5124-4268-886B-F0202821B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F632-7B19-43D3-A326-32445B376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C3ED-F6CF-451E-BC8E-C279E1909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7C16-73D9-4A8F-9F97-A9A5B79C8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603A-4169-46CE-B0D1-440C7C037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5B5F-4029-44FA-977A-3122D69C0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DCEC-4EF6-4878-9857-23920E3EF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9947-8AC5-4213-A3C0-04575709A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1599-7876-4FDC-84CA-A3858AAB5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92DC-F6AB-4879-91B4-F2C739A96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FA863-9C00-47B0-8A95-D1A2AA7ABB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しく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330200" y="1197000"/>
            <a:ext cx="1440000" cy="352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651640" y="1197000"/>
            <a:ext cx="143964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プログラ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0200" y="1484280"/>
            <a:ext cx="28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59280" y="1197000"/>
            <a:ext cx="2233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起動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PMACRO /D=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000208D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47640" y="907920"/>
            <a:ext cx="107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 u="sng">
                <a:solidFill>
                  <a:srgbClr val="000000"/>
                </a:solidFill>
                <a:uFillTx/>
                <a:latin typeface="Arial"/>
              </a:rPr>
              <a:t>HWND HVTW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87640" y="620640"/>
            <a:ext cx="1368360" cy="289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トピック名生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484360" y="836280"/>
            <a:ext cx="50328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284720" y="907920"/>
            <a:ext cx="216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2771640" y="170028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92360" y="1700280"/>
            <a:ext cx="172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へ接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2771640" y="2060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92360" y="206064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XECU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2771640" y="242100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92360" y="242100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DV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32000" y="2421000"/>
            <a:ext cx="143964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4000" y="2565360"/>
            <a:ext cx="934920" cy="503280"/>
          </a:xfrm>
          <a:custGeom>
            <a:avLst/>
            <a:gdLst>
              <a:gd name="textAreaLeft" fmla="*/ 125280 w 934920"/>
              <a:gd name="textAreaRight" fmla="*/ 809640 w 934920"/>
              <a:gd name="textAreaTop" fmla="*/ 94680 h 503280"/>
              <a:gd name="textAreaBottom" fmla="*/ 330480 h 50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50" stAng="-5400000" swAng="-5400000"/>
                <a:lnTo>
                  <a:pt x="0" y="10112"/>
                </a:lnTo>
                <a:arcTo wR="21600" hR="8150" stAng="10800000" swAng="-2811621"/>
                <a:lnTo>
                  <a:pt x="14400" y="21134"/>
                </a:lnTo>
                <a:lnTo>
                  <a:pt x="21600" y="17280"/>
                </a:lnTo>
                <a:lnTo>
                  <a:pt x="14400" y="12494"/>
                </a:lnTo>
                <a:lnTo>
                  <a:pt x="14400" y="15833"/>
                </a:lnTo>
                <a:arcTo wR="21600" hR="8150" stAng="7988379" swAng="2654456"/>
                <a:lnTo>
                  <a:pt x="157" y="9131"/>
                </a:lnTo>
                <a:arcTo wR="21600" hR="8150" stAng="-10642835" swAng="5242835"/>
                <a:close/>
              </a:path>
              <a:path fill="darkenLess" w="21600" h="21600">
                <a:moveTo>
                  <a:pt x="21600" y="0"/>
                </a:moveTo>
                <a:arcTo wR="21600" hR="8150" stAng="-5400000" swAng="-5400000"/>
                <a:lnTo>
                  <a:pt x="0" y="8150"/>
                </a:lnTo>
                <a:arcTo wR="21600" hR="8150" stAng="10800000" swAng="-157165"/>
                <a:lnTo>
                  <a:pt x="157" y="9131"/>
                </a:lnTo>
                <a:arcTo wR="21600" hR="8150" stAng="-10642835" swAng="524283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8000" y="3141720"/>
            <a:ext cx="792000" cy="358560"/>
          </a:xfrm>
          <a:prstGeom prst="wedgeRoundRectCallout">
            <a:avLst>
              <a:gd name="adj1" fmla="val -8916"/>
              <a:gd name="adj2" fmla="val -98671"/>
              <a:gd name="adj3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REQ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71640" y="292428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92360" y="292428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送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DVDAT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867280" y="2492280"/>
            <a:ext cx="1009800" cy="505080"/>
          </a:xfrm>
          <a:prstGeom prst="wedgeRoundRectCallout">
            <a:avLst>
              <a:gd name="adj1" fmla="val -77513"/>
              <a:gd name="adj2" fmla="val 38050"/>
              <a:gd name="adj3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からのデータ受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2771640" y="335772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92360" y="335772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送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OK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771640" y="3860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348000" y="3860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終了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DIS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771640" y="4292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48000" y="4292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終了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DIS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042920" y="5373720"/>
            <a:ext cx="6624720" cy="1079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通信はピアツーピアの接続モデルを持つ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セッションの識別はサービス名（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ATERM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トピック名（任意の文字列）の組み合わせで行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0T12:29:44Z</dcterms:modified>
  <cp:revision>50</cp:revision>
  <dc:subject/>
  <dc:title>DDEのしくみ</dc:title>
</cp:coreProperties>
</file>