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6EE6-205C-4AE4-8772-70EB58D54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16C8-9EE5-44EE-81FF-EE26C1D60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38D6-D2E3-423D-B698-A7BE76BEF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AF7E-98B3-4317-A1A2-7B1F3F0A8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C096-F9E3-4BD2-858D-DAC2C57D6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973B-58CE-420E-BA1A-4AEE7E2EB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78F7-2878-4FC5-AB28-900478077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F32B-447F-4EA0-93DA-84990F135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5B61-B3E9-4F2A-9A83-F08287B52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5706-AC73-413C-8686-524DCFD79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1C97-4D8F-463A-BF71-EEC46F547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C7DE-ACCE-4470-A942-9640387C2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487E6-8F14-430F-B1CF-38853DE843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X11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転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987640" y="692280"/>
            <a:ext cx="2448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H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アプリケーショ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87640" y="2852640"/>
            <a:ext cx="2448000" cy="865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a Te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987640" y="5013360"/>
            <a:ext cx="2448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35280" y="4149720"/>
            <a:ext cx="23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6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635280" y="2060640"/>
            <a:ext cx="23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5280" y="155736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35280" y="371628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716360" y="155736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16360" y="371628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26920" y="1844640"/>
            <a:ext cx="2089440" cy="330120"/>
          </a:xfrm>
          <a:prstGeom prst="borderCallout1">
            <a:avLst>
              <a:gd name="adj1" fmla="val 18750"/>
              <a:gd name="adj2" fmla="val -8333"/>
              <a:gd name="adj3" fmla="val 143750"/>
              <a:gd name="adj4" fmla="val 1310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2781360"/>
            <a:ext cx="2087640" cy="865080"/>
          </a:xfrm>
          <a:prstGeom prst="wedgeRectCallout">
            <a:avLst>
              <a:gd name="adj1" fmla="val 69314"/>
              <a:gd name="adj2" fmla="val 1220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handle_SSH2_channel_data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FWD_received_data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sz="1000" spc="-1" strike="noStrike">
                <a:solidFill>
                  <a:srgbClr val="000000"/>
                </a:solidFill>
                <a:latin typeface="Arial"/>
              </a:rPr>
              <a:t>UTIL_sock_buffered_writ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blocking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2340000" y="4292280"/>
            <a:ext cx="574560" cy="1081080"/>
          </a:xfrm>
          <a:custGeom>
            <a:avLst/>
            <a:gdLst>
              <a:gd name="textAreaLeft" fmla="*/ 76680 w 574560"/>
              <a:gd name="textAreaRight" fmla="*/ 497880 w 574560"/>
              <a:gd name="textAreaTop" fmla="*/ 189000 h 1081080"/>
              <a:gd name="textAreaBottom" fmla="*/ 78372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8000" y="4221000"/>
            <a:ext cx="2087640" cy="865440"/>
          </a:xfrm>
          <a:prstGeom prst="wedgeRectCallout">
            <a:avLst>
              <a:gd name="adj1" fmla="val 56768"/>
              <a:gd name="adj2" fmla="val 140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FD_WR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write_local_connection_buffer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UTIL_sock_write_mor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24360" y="2852640"/>
            <a:ext cx="2519640" cy="863640"/>
          </a:xfrm>
          <a:prstGeom prst="wedgeRectCallout">
            <a:avLst>
              <a:gd name="adj1" fmla="val -60837"/>
              <a:gd name="adj2" fmla="val 1378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D_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d_local_connection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channel_sen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send_channel_data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05360" y="1844640"/>
            <a:ext cx="2089440" cy="330120"/>
          </a:xfrm>
          <a:prstGeom prst="borderCallout1">
            <a:avLst>
              <a:gd name="adj1" fmla="val 18750"/>
              <a:gd name="adj2" fmla="val -8333"/>
              <a:gd name="adj3" fmla="val 163462"/>
              <a:gd name="adj4" fmla="val -490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12-10-14T09:23:22Z</dcterms:modified>
  <cp:revision>355</cp:revision>
  <dc:subject/>
  <dc:title>DDEのしくみ</dc:title>
</cp:coreProperties>
</file>