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F4E04A-9C5F-4A2A-BB12-270DA9C5F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DF3A19-EBB7-4010-9A36-3B4872054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7BB6D9-442F-4F8B-A21E-D66FFBF11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732DF6-6F63-4C70-B730-8B20B872A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D44025-BC3D-4A83-939F-EEF1F6DBF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60CB2F-7CD8-4586-9391-A215F7F68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E18E01-80C1-4C16-9BAF-4744A9936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2E8677-4449-49AC-B683-06C29401E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329E98-CBF3-4C2A-969F-EB8937144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1C0094-861D-4F3F-AD16-FD2F46464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E88928-6734-4648-9FC3-9137BFCF9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AECB3A-CACC-41EB-A84B-080B76F26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EE24F2-1589-47EA-B889-D18BCB0B9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421A3E-4F4C-4C07-8391-807D2E99D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912BD2-AAB9-4D63-B790-949B19637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6A4081-8FC8-45C3-83ED-E50A6EB2E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B169B6-2BA0-468D-85AE-5DC1A4435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FE3F99-147A-4DFA-8160-A8B769B77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021699-2F0D-4D80-8E29-7B20FF1AD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203274-7B7F-47D3-9C6B-76F741D91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B24203-8DE6-4BBA-99D8-BD4510F61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AF8BB9-852B-4E1B-A873-48766C7C0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D88BBE-552E-44B8-87D5-11F364741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C42507-A920-408D-A99D-D0BAC66D6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0EA-0D1D-4AB7-8A04-7E0F4F93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DB3-CE67-4C9E-BA88-0DB31570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B92-BDCF-42C4-ACEF-166A56C0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5A7-E22E-449D-A2D6-BAAA6893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546C-5C90-4484-912A-18EE775F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BDFD-FA0D-4E7B-A117-A24D1BF9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BE26-0BDA-4E7A-BFF1-F0085F35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130A-7990-4AD0-AA8E-B1A2C384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0550-E05B-466A-AF70-9E52C755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AE8D-568B-4ECA-B0BD-0D59087A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E373-8C8D-4255-BA83-015BDCC1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936-9BCD-402C-89BC-C7AD15E0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8679-B85A-4D62-8D4F-6FCA0059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3378-2D62-4976-B89F-780FA708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17B8-C44E-4EDD-AA7C-6BCEF2E8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EE5B-1083-4EBE-8D2C-F48F9C3D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7DF2-1B78-42D1-87AE-2BADAEAA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6687-16C6-4B70-B6A2-EDF34C0E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99CB-8BDB-48A4-9FEE-5A04841B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05D9-D78A-40D0-8A97-D906B9B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5C984-1D1E-427C-B8FE-AAF0A5A0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165E-E68D-42BA-961A-3286AC32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3EB-F320-4E9C-98F8-26A87B4E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6A33-603D-4DDB-A525-D814BC93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22BC-AF03-441D-8CAB-35182ADF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99A6A-B364-426F-97AB-0AA2A717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FC18-0432-41E3-A0E1-25756684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FE6E-BCBF-483F-93BA-11B33234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D9FB-AD49-476E-963D-6FDB0AEF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E7C6-88A5-48DB-94DE-BEE169C5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817BF-17E4-4213-996A-3894ACF7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D82D1-8175-4EE0-B59B-390124A7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6579-C9FF-4541-8E74-65859EDD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038-DEFA-4B42-9A69-99856564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E9889-A5A0-4B1D-BC81-94C20F4E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F875-5B31-456D-84B2-C9E928D7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8F4F-D504-4220-B9D4-8C8F04F6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D8D1F-A95E-4752-8A88-CA9F73B8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B948-3CE8-4F87-B6B4-5CF5779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5CC2-8A31-4AAB-8CDA-CF187C2F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D14FA-E4E5-46C7-961C-6CFF71D5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9F92C-421A-488D-9DF0-D7FAADF6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27BC-811C-403A-B8BA-6C1E0447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C8B6-82C3-4C31-B220-02F30B5F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161-6D81-492A-AB13-85FF6F5D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C99B-AA2A-48EE-84AD-44CA8C04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1B3F5-2B84-43AC-B5EA-A1D83AA0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0317D-6892-4B6A-AC7A-4BFF2B8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ABAFF-ABEA-4C2B-B6EC-5F2E3A46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59A6A-1A40-4A9D-9FA2-26010830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9D766-341C-4719-A864-8D3B745D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7CD4F-B49D-474E-B81C-0C568704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27530-4CE9-4551-B92A-BAA21DD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54D4A-EF2D-4C32-A6DF-07363C02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97723-FAC8-4FAC-A3DA-C2E78FC7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870-BA6E-45BD-A141-6CF9A145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91D5F-B61F-40DD-A718-7C97F447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4F7-D5D7-446A-BC95-8FBEF8AE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81A-8515-4A5B-BCB0-E3C20420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50F-E27A-4995-9A1E-59F27A1F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9040" y="274680"/>
            <a:ext cx="7637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0590-490B-4E1C-9A23-38045D0B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422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明朝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64422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AB52-C3F8-487C-AFA8-079AB4D31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CEC9-35EE-4EB4-9795-DD20833EF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9040" y="274680"/>
            <a:ext cx="7637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D1EB-7C47-44C7-8379-8B9387ADF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422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明朝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64422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6EB3-A79B-4851-99AE-9D5E03E4B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Tutorial of Stigmata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6040" y="2492280"/>
            <a:ext cx="6183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Haruaki Tamada, Ph.D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http://stigmata.sourceforge.jp/tutorial.pdf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Sourceforge.jp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1258920" y="1722600"/>
            <a:ext cx="6772320" cy="45147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3422520" y="3789360"/>
            <a:ext cx="44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st of extracted birthmarks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Back to ``control’’ pan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258920" y="1722600"/>
            <a:ext cx="6772320" cy="4514760"/>
          </a:xfrm>
          <a:prstGeom prst="rect">
            <a:avLst/>
          </a:prstGeom>
          <a:ln w="0">
            <a:noFill/>
          </a:ln>
        </p:spPr>
      </p:pic>
      <p:sp>
        <p:nvSpPr>
          <p:cNvPr id="258" name="Oval 5"/>
          <p:cNvSpPr/>
          <p:nvPr/>
        </p:nvSpPr>
        <p:spPr>
          <a:xfrm>
            <a:off x="1116000" y="2060640"/>
            <a:ext cx="9144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356000" y="2708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tab, then go back to ``control’’ p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8"/>
          <p:cNvCxnSpPr>
            <a:stCxn id="259" idx="0"/>
            <a:endCxn id="258" idx="6"/>
          </p:cNvCxnSpPr>
          <p:nvPr/>
        </p:nvCxnSpPr>
        <p:spPr>
          <a:xfrm flipV="1" rot="16200000">
            <a:off x="3617640" y="672480"/>
            <a:ext cx="467280" cy="360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513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Add target file into Y axi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5148360" y="44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32360" y="278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is button and choose targe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10"/>
          <p:cNvCxnSpPr>
            <a:stCxn id="264" idx="2"/>
            <a:endCxn id="263" idx="0"/>
          </p:cNvCxnSpPr>
          <p:nvPr/>
        </p:nvCxnSpPr>
        <p:spPr>
          <a:xfrm rot="5400000">
            <a:off x="5365080" y="3661920"/>
            <a:ext cx="996120" cy="516600"/>
          </a:xfrm>
          <a:prstGeom prst="bentConnector3">
            <a:avLst>
              <a:gd name="adj1" fmla="val 50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4068720" y="5877000"/>
            <a:ext cx="1440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788000" y="3357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comparing round robin’’ button, then extracting birthmarks from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6"/>
          <p:cNvCxnSpPr>
            <a:stCxn id="269" idx="2"/>
            <a:endCxn id="268" idx="0"/>
          </p:cNvCxnSpPr>
          <p:nvPr/>
        </p:nvCxnSpPr>
        <p:spPr>
          <a:xfrm rot="5400000">
            <a:off x="4871160" y="4465440"/>
            <a:ext cx="1310400" cy="1475640"/>
          </a:xfrm>
          <a:prstGeom prst="bentConnector3">
            <a:avLst>
              <a:gd name="adj1" fmla="val 506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omparison result of birthmarks</a:t>
            </a:r>
            <a:br>
              <a:rPr sz="3600"/>
            </a:b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(Round robin comparison)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omparison result of birthmarks</a:t>
            </a:r>
            <a:br>
              <a:rPr sz="3600"/>
            </a:b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(Round robin comparison)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8920" y="3645000"/>
            <a:ext cx="3835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``Save’’ button, then file save dialog is shown.  You can save those result as csv and xml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140328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6"/>
          <p:cNvCxnSpPr>
            <a:stCxn id="275" idx="2"/>
            <a:endCxn id="276" idx="0"/>
          </p:cNvCxnSpPr>
          <p:nvPr/>
        </p:nvCxnSpPr>
        <p:spPr>
          <a:xfrm rot="5400000">
            <a:off x="1397160" y="5033160"/>
            <a:ext cx="1072080" cy="146880"/>
          </a:xfrm>
          <a:prstGeom prst="bentConnector3">
            <a:avLst>
              <a:gd name="adj1" fmla="val 50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8920" y="3645000"/>
            <a:ext cx="3259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ing some cell, then opening new tab to show details of comparison p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The result of comparison pair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Showing similarity distribution graph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78144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679840" y="4076640"/>
            <a:ext cx="31161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Graph’’ button, then similarity distribution graph is shown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7"/>
          <p:cNvCxnSpPr>
            <a:stCxn id="286" idx="2"/>
            <a:endCxn id="285" idx="0"/>
          </p:cNvCxnSpPr>
          <p:nvPr/>
        </p:nvCxnSpPr>
        <p:spPr>
          <a:xfrm flipH="1">
            <a:off x="4237920" y="5001840"/>
            <a:ext cx="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08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imilarity distribution graph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Launching Stigmata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48320" cy="4953240"/>
          </a:xfrm>
          <a:prstGeom prst="rect">
            <a:avLst/>
          </a:prstGeom>
          <a:ln w="0">
            <a:noFill/>
          </a:ln>
        </p:spPr>
      </p:pic>
      <p:sp>
        <p:nvSpPr>
          <p:cNvPr id="216" name="Oval 5"/>
          <p:cNvSpPr/>
          <p:nvPr/>
        </p:nvSpPr>
        <p:spPr>
          <a:xfrm>
            <a:off x="5148360" y="26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754440" y="450864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, then launch stig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7"/>
          <p:cNvCxnSpPr>
            <a:stCxn id="217" idx="0"/>
            <a:endCxn id="216" idx="4"/>
          </p:cNvCxnSpPr>
          <p:nvPr/>
        </p:nvCxnSpPr>
        <p:spPr>
          <a:xfrm flipH="1" flipV="1" rot="5400000">
            <a:off x="5133600" y="4036320"/>
            <a:ext cx="939240" cy="5400"/>
          </a:xfrm>
          <a:prstGeom prst="bentConnector3">
            <a:avLst>
              <a:gd name="adj1" fmla="val 5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80052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2050920" y="3957480"/>
            <a:ext cx="441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arrow button besides of ``Graph’’ button and popup menu is shown, select ``Distance Mapping’’ menu, then distance mapping is shown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AutoShape 6"/>
          <p:cNvCxnSpPr>
            <a:stCxn id="293" idx="2"/>
            <a:endCxn id="292" idx="0"/>
          </p:cNvCxnSpPr>
          <p:nvPr/>
        </p:nvCxnSpPr>
        <p:spPr>
          <a:xfrm flipH="1">
            <a:off x="4257000" y="5157360"/>
            <a:ext cx="108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22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Distance mapping graph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6083280" y="5661000"/>
            <a:ext cx="187344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2050920" y="4149720"/>
            <a:ext cx="46087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Comparing guessed pair’’ button, showing the result of comparing birthmarks by same name pair from X and Y 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6"/>
          <p:cNvCxnSpPr>
            <a:stCxn id="300" idx="3"/>
            <a:endCxn id="299" idx="0"/>
          </p:cNvCxnSpPr>
          <p:nvPr/>
        </p:nvCxnSpPr>
        <p:spPr>
          <a:xfrm>
            <a:off x="6659280" y="4613040"/>
            <a:ext cx="361080" cy="102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2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creensho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hoose targe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1835280" y="44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19280" y="27813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is button, then file opening dialog i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6"/>
          <p:cNvCxnSpPr>
            <a:stCxn id="224" idx="2"/>
            <a:endCxn id="223" idx="0"/>
          </p:cNvCxnSpPr>
          <p:nvPr/>
        </p:nvCxnSpPr>
        <p:spPr>
          <a:xfrm rot="5400000">
            <a:off x="2135160" y="3853440"/>
            <a:ext cx="721440" cy="408600"/>
          </a:xfrm>
          <a:prstGeom prst="bentConnector3">
            <a:avLst>
              <a:gd name="adj1" fmla="val 510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1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hoose target jar fil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5000400" cy="3429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548280" y="5429160"/>
            <a:ext cx="3948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Jar file, and press open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5508720" y="51577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AutoShape 10"/>
          <p:cNvCxnSpPr>
            <a:stCxn id="229" idx="3"/>
            <a:endCxn id="230" idx="2"/>
          </p:cNvCxnSpPr>
          <p:nvPr/>
        </p:nvCxnSpPr>
        <p:spPr>
          <a:xfrm flipV="1">
            <a:off x="4505400" y="5614200"/>
            <a:ext cx="984960" cy="3960"/>
          </a:xfrm>
          <a:prstGeom prst="bentConnector3">
            <a:avLst>
              <a:gd name="adj1" fmla="val 50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Other choice method (D&amp;D)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356000" y="3375000"/>
            <a:ext cx="4535640" cy="3483000"/>
          </a:xfrm>
          <a:prstGeom prst="rect">
            <a:avLst/>
          </a:prstGeom>
          <a:ln w="0">
            <a:noFill/>
          </a:ln>
        </p:spPr>
      </p:pic>
      <p:sp>
        <p:nvSpPr>
          <p:cNvPr id="235" name="Oval 6"/>
          <p:cNvSpPr/>
          <p:nvPr/>
        </p:nvSpPr>
        <p:spPr>
          <a:xfrm>
            <a:off x="5724360" y="35002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 rot="11411400">
            <a:off x="2550240" y="1568520"/>
            <a:ext cx="3884760" cy="1727280"/>
          </a:xfrm>
          <a:custGeom>
            <a:avLst/>
            <a:gdLst>
              <a:gd name="textAreaLeft" fmla="*/ 895680 w 3884760"/>
              <a:gd name="textAreaRight" fmla="*/ 2814480 w 3884760"/>
              <a:gd name="textAreaTop" fmla="*/ 231120 h 1727280"/>
              <a:gd name="textAreaBottom" fmla="*/ 14961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60" hR="21600" stAng="10800000" swAng="-5400000"/>
                <a:lnTo>
                  <a:pt x="10669" y="21600"/>
                </a:lnTo>
                <a:arcTo wR="9960" hR="21600" stAng="5400000" swAng="-4063791"/>
                <a:lnTo>
                  <a:pt x="21427" y="4008"/>
                </a:lnTo>
                <a:lnTo>
                  <a:pt x="20275" y="0"/>
                </a:lnTo>
                <a:lnTo>
                  <a:pt x="18776" y="4008"/>
                </a:lnTo>
                <a:lnTo>
                  <a:pt x="19747" y="4008"/>
                </a:lnTo>
                <a:arcTo wR="9960" hR="21600" stAng="1336209" swAng="4007340"/>
                <a:lnTo>
                  <a:pt x="10314" y="21586"/>
                </a:lnTo>
                <a:arcTo wR="9960" hR="21600" stAng="5456451" swAng="5343549"/>
                <a:close/>
              </a:path>
              <a:path fill="darkenLess" w="21600" h="21600">
                <a:moveTo>
                  <a:pt x="0" y="0"/>
                </a:moveTo>
                <a:arcTo wR="9960" hR="21600" stAng="10800000" swAng="-5400000"/>
                <a:lnTo>
                  <a:pt x="10669" y="21600"/>
                </a:lnTo>
                <a:arcTo wR="9960" hR="21600" stAng="5400000" swAng="56451"/>
                <a:lnTo>
                  <a:pt x="10314" y="21586"/>
                </a:lnTo>
                <a:arcTo wR="9960" hR="21600" stAng="5456451" swAng="534354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6156360" y="1557360"/>
            <a:ext cx="2792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jar file and drop it into target list component, then the jar file was chosen as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elect extracted birthmark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1116000" y="4797360"/>
            <a:ext cx="684072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622160" y="335772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racted birth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AutoShape 10"/>
          <p:cNvCxnSpPr>
            <a:stCxn id="241" idx="2"/>
            <a:endCxn id="240" idx="0"/>
          </p:cNvCxnSpPr>
          <p:nvPr/>
        </p:nvCxnSpPr>
        <p:spPr>
          <a:xfrm flipH="1" rot="16200000">
            <a:off x="3289320" y="3530160"/>
            <a:ext cx="1054800" cy="1442160"/>
          </a:xfrm>
          <a:prstGeom prst="bentConnector3">
            <a:avLst>
              <a:gd name="adj1" fmla="val 507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0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elect extraction uni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5651640" y="5805360"/>
            <a:ext cx="2160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859280" y="2852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raction unit.  Default is extracting from each class file.  Other unit is extracting from package, and jar file (prod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9"/>
          <p:cNvCxnSpPr>
            <a:stCxn id="246" idx="2"/>
            <a:endCxn id="245" idx="0"/>
          </p:cNvCxnSpPr>
          <p:nvPr/>
        </p:nvCxnSpPr>
        <p:spPr>
          <a:xfrm flipH="1" rot="16200000">
            <a:off x="5817240" y="4871520"/>
            <a:ext cx="1469160" cy="361080"/>
          </a:xfrm>
          <a:prstGeom prst="bentConnector3">
            <a:avLst>
              <a:gd name="adj1" fmla="val 505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2700360" y="587700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476360" y="35924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extract’’ button, then extracting birthmarks from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6"/>
          <p:cNvCxnSpPr>
            <a:stCxn id="251" idx="2"/>
            <a:endCxn id="250" idx="0"/>
          </p:cNvCxnSpPr>
          <p:nvPr/>
        </p:nvCxnSpPr>
        <p:spPr>
          <a:xfrm flipH="1" rot="16200000">
            <a:off x="2458440" y="5039280"/>
            <a:ext cx="1350000" cy="288000"/>
          </a:xfrm>
          <a:prstGeom prst="bentConnector3">
            <a:avLst>
              <a:gd name="adj1" fmla="val 505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4:39:47Z</dcterms:created>
  <dc:creator>玉田 春昭</dc:creator>
  <dc:description/>
  <dc:language>en-US</dc:language>
  <cp:lastModifiedBy> </cp:lastModifiedBy>
  <dcterms:modified xsi:type="dcterms:W3CDTF">2008-05-15T04:37:14Z</dcterms:modified>
  <cp:revision>4</cp:revision>
  <dc:subject/>
  <dc:title>Tutorial of Stigmata</dc:title>
</cp:coreProperties>
</file>