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8082-176D-4B76-A61E-398250FC4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1CB0-192F-4F30-9F87-83A78011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7CE9-E6E8-4E05-ABCA-A2DA39864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1A12-852C-4E19-BF70-13E4104BB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2EAF-F23F-4DED-9648-6B5CC7E4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EC5D-B08F-4BAF-9FB3-9496981C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6725-7E69-47BA-B2CF-179240CA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72E1-006B-46E9-8C53-E6AE281D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4014-E6E8-4A33-8D7C-CCFB97BA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2185-4AB1-47EE-A323-8278D14E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A00F-F1E0-4C62-9783-3AAA7CEB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ECD8-2F76-408F-9C5E-E85EE2AF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68E5-6DD3-4DCD-9F10-72778B18D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28520" y="665280"/>
            <a:ext cx="8848800" cy="5522040"/>
            <a:chOff x="128520" y="665280"/>
            <a:chExt cx="8848800" cy="5522040"/>
          </a:xfrm>
        </p:grpSpPr>
        <p:sp>
          <p:nvSpPr>
            <p:cNvPr id="42" name=""/>
            <p:cNvSpPr/>
            <p:nvPr/>
          </p:nvSpPr>
          <p:spPr>
            <a:xfrm>
              <a:off x="191880" y="80244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bbe0e3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F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96960" y="2032920"/>
              <a:ext cx="1800000" cy="6156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機能一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55880" y="2032920"/>
              <a:ext cx="1800000" cy="6156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ライン一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176960" y="340128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ffffcc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テスト仕様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176960" y="2032920"/>
              <a:ext cx="1800360" cy="615600"/>
            </a:xfrm>
            <a:prstGeom prst="roundRect">
              <a:avLst>
                <a:gd name="adj" fmla="val 16667"/>
              </a:avLst>
            </a:prstGeom>
            <a:solidFill>
              <a:srgbClr val="ffcc99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プログラ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16240" y="2032920"/>
              <a:ext cx="1800360" cy="615600"/>
            </a:xfrm>
            <a:prstGeom prst="roundRect">
              <a:avLst>
                <a:gd name="adj" fmla="val 16667"/>
              </a:avLst>
            </a:prstGeom>
            <a:solidFill>
              <a:srgbClr val="ff9966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ライン仕様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84240" y="340128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99cc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R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016240" y="340128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99ff33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設計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84240" y="463392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3366ff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モックアッ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089320" y="463392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6699ff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画面遷移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42" idx="2"/>
              <a:endCxn id="43" idx="1"/>
            </p:cNvCxnSpPr>
            <p:nvPr/>
          </p:nvCxnSpPr>
          <p:spPr>
            <a:xfrm rot="5400000">
              <a:off x="432720" y="1681920"/>
              <a:ext cx="923400" cy="395280"/>
            </a:xfrm>
            <a:prstGeom prst="bentConnector4">
              <a:avLst>
                <a:gd name="adj1" fmla="val 33307"/>
                <a:gd name="adj2" fmla="val 15861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" name=""/>
            <p:cNvCxnSpPr>
              <a:stCxn id="43" idx="3"/>
              <a:endCxn id="44" idx="1"/>
            </p:cNvCxnSpPr>
            <p:nvPr/>
          </p:nvCxnSpPr>
          <p:spPr>
            <a:xfrm>
              <a:off x="2496960" y="2340720"/>
              <a:ext cx="35928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44" idx="3"/>
              <a:endCxn id="47" idx="1"/>
            </p:cNvCxnSpPr>
            <p:nvPr/>
          </p:nvCxnSpPr>
          <p:spPr>
            <a:xfrm>
              <a:off x="4655880" y="2340720"/>
              <a:ext cx="36072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" name=""/>
            <p:cNvCxnSpPr>
              <a:stCxn id="47" idx="3"/>
              <a:endCxn id="46" idx="1"/>
            </p:cNvCxnSpPr>
            <p:nvPr/>
          </p:nvCxnSpPr>
          <p:spPr>
            <a:xfrm>
              <a:off x="6816600" y="2340720"/>
              <a:ext cx="36072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" name=""/>
            <p:cNvCxnSpPr>
              <a:stCxn id="45" idx="0"/>
              <a:endCxn id="46" idx="2"/>
            </p:cNvCxnSpPr>
            <p:nvPr/>
          </p:nvCxnSpPr>
          <p:spPr>
            <a:xfrm flipV="1">
              <a:off x="8076960" y="2648520"/>
              <a:ext cx="36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" name=""/>
            <p:cNvCxnSpPr>
              <a:stCxn id="48" idx="3"/>
              <a:endCxn id="49" idx="1"/>
            </p:cNvCxnSpPr>
            <p:nvPr/>
          </p:nvCxnSpPr>
          <p:spPr>
            <a:xfrm>
              <a:off x="4584600" y="3708720"/>
              <a:ext cx="43200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" name=""/>
            <p:cNvCxnSpPr>
              <a:stCxn id="43" idx="2"/>
              <a:endCxn id="50" idx="1"/>
            </p:cNvCxnSpPr>
            <p:nvPr/>
          </p:nvCxnSpPr>
          <p:spPr>
            <a:xfrm flipH="1" rot="16200000">
              <a:off x="1044360" y="3201120"/>
              <a:ext cx="2293200" cy="1187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endCxn id="48" idx="1"/>
            </p:cNvCxnSpPr>
            <p:nvPr/>
          </p:nvCxnSpPr>
          <p:spPr>
            <a:xfrm>
              <a:off x="2135520" y="2717640"/>
              <a:ext cx="649080" cy="991440"/>
            </a:xfrm>
            <a:prstGeom prst="bentConnector3">
              <a:avLst>
                <a:gd name="adj1" fmla="val 32130"/>
              </a:avLst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50" idx="3"/>
              <a:endCxn id="51" idx="1"/>
            </p:cNvCxnSpPr>
            <p:nvPr/>
          </p:nvCxnSpPr>
          <p:spPr>
            <a:xfrm>
              <a:off x="4584600" y="4941360"/>
              <a:ext cx="50508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128520" y="665280"/>
              <a:ext cx="6904080" cy="5268960"/>
            </a:xfrm>
            <a:prstGeom prst="rect">
              <a:avLst/>
            </a:prstGeom>
            <a:noFill/>
            <a:ln w="25560">
              <a:solidFill>
                <a:srgbClr val="008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7880" y="5727600"/>
              <a:ext cx="1224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9900"/>
                  </a:solidFill>
                  <a:latin typeface="Arial"/>
                  <a:ea typeface="HG創英角ｺﾞｼｯｸUB"/>
                </a:rPr>
                <a:t>仕様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 flipV="1">
            <a:off x="5940360" y="2637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572000" y="2637000"/>
            <a:ext cx="504720" cy="20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2T06:48:27Z</dcterms:created>
  <dc:creator>ohtake</dc:creator>
  <dc:description/>
  <dc:language>en-US</dc:language>
  <cp:lastModifiedBy>ymurakami</cp:lastModifiedBy>
  <dcterms:modified xsi:type="dcterms:W3CDTF">2007-07-13T04:42:16Z</dcterms:modified>
  <cp:revision>6</cp:revision>
  <dc:subject/>
  <dc:title>スライド 1</dc:title>
</cp:coreProperties>
</file>