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7393-21D4-4056-BD80-47C021726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AA96-EBC1-4147-802C-E9D6A5E62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5A15-1D88-4DC2-81E2-E60B913B1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EAC0-15BC-489A-9ED5-9185F78705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1C2C-2229-4FF0-92A3-A6A8B4D34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C487-BE2A-4A12-8D24-1FCC2DF5F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1317-3BEE-4AB1-BA07-09E93D244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70C0-D368-4359-9C7E-F5711FB4A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5AB9-5A64-4C90-9FDB-9850EDBAE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A67D-ECA0-4A5A-A190-36EB4F3AA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196C-501B-49EA-BB1C-543646FE1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CFE8-713E-4C69-B4B4-3BAE4DCFB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E891-40AD-4EA7-A237-AA2235845816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2120" y="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imon Fischer, Sami Kama, IT-API, </a:t>
            </a:r>
            <a:fld id="{0F753928-C56E-47EF-8D50-4D7695E67C40}" type="datetime">
              <a:rPr b="0" lang="en-US" sz="1400" spc="-1" strike="noStrike">
                <a:solidFill>
                  <a:srgbClr val="ccec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800" y="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urier New"/>
              </a:rPr>
              <a:t>org.freehep.graphics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package of the FreeHEP libra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mon Fischer (University of Dortmund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ami Kama (METU, Ankar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1FCC-A148-4096-B05B-247C7CECA8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4. PDFGraphics2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0481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Image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7339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Paint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1055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4197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0" idx="1"/>
          </p:cNvCxnSpPr>
          <p:nvPr/>
        </p:nvCxnSpPr>
        <p:spPr>
          <a:xfrm flipV="1">
            <a:off x="3742920" y="3285720"/>
            <a:ext cx="1353240" cy="52416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6" name=""/>
          <p:cNvCxnSpPr>
            <a:stCxn id="107" idx="3"/>
            <a:endCxn id="101" idx="1"/>
          </p:cNvCxnSpPr>
          <p:nvPr/>
        </p:nvCxnSpPr>
        <p:spPr>
          <a:xfrm flipV="1">
            <a:off x="3742920" y="3971160"/>
            <a:ext cx="1353240" cy="14364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8" name=""/>
          <p:cNvCxnSpPr>
            <a:stCxn id="109" idx="3"/>
            <a:endCxn id="102" idx="1"/>
          </p:cNvCxnSpPr>
          <p:nvPr/>
        </p:nvCxnSpPr>
        <p:spPr>
          <a:xfrm>
            <a:off x="3742920" y="4724280"/>
            <a:ext cx="1353240" cy="61992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10" name=""/>
          <p:cNvCxnSpPr>
            <a:stCxn id="111" idx="3"/>
            <a:endCxn id="103" idx="1"/>
          </p:cNvCxnSpPr>
          <p:nvPr/>
        </p:nvCxnSpPr>
        <p:spPr>
          <a:xfrm>
            <a:off x="3742920" y="4419360"/>
            <a:ext cx="1353240" cy="23868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04920" y="1676520"/>
            <a:ext cx="358128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676520"/>
            <a:ext cx="358164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age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2" idx="2"/>
          </p:cNvCxnSpPr>
          <p:nvPr/>
        </p:nvCxnSpPr>
        <p:spPr>
          <a:xfrm flipV="1">
            <a:off x="2095200" y="2161800"/>
            <a:ext cx="1080" cy="953280"/>
          </a:xfrm>
          <a:prstGeom prst="straightConnector1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0"/>
            <a:endCxn id="113" idx="2"/>
          </p:cNvCxnSpPr>
          <p:nvPr/>
        </p:nvCxnSpPr>
        <p:spPr>
          <a:xfrm flipV="1">
            <a:off x="2095200" y="2161800"/>
            <a:ext cx="3963240" cy="953280"/>
          </a:xfrm>
          <a:prstGeom prst="straightConnector1">
            <a:avLst/>
          </a:prstGeom>
          <a:ln w="28440">
            <a:solidFill>
              <a:srgbClr val="ccccff"/>
            </a:solidFill>
            <a:prstDash val="lgDash"/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762120" y="3124080"/>
            <a:ext cx="2971800" cy="2057400"/>
            <a:chOff x="762120" y="3124080"/>
            <a:chExt cx="2971800" cy="2057400"/>
          </a:xfrm>
        </p:grpSpPr>
        <p:grpSp>
          <p:nvGrpSpPr>
            <p:cNvPr id="118" name=""/>
            <p:cNvGrpSpPr/>
            <p:nvPr/>
          </p:nvGrpSpPr>
          <p:grpSpPr>
            <a:xfrm>
              <a:off x="762120" y="3124080"/>
              <a:ext cx="2666880" cy="1699920"/>
              <a:chOff x="762120" y="3124080"/>
              <a:chExt cx="2666880" cy="1699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3124080"/>
                <a:ext cx="2666880" cy="169992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DFGraphics2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Image(Image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aint(Pa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Font(Fo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String(TagString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3581280"/>
                <a:ext cx="266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429000" y="37339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4038480"/>
              <a:ext cx="304920" cy="15264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6483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434340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876920"/>
              <a:ext cx="152280" cy="30456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5486400"/>
            <a:ext cx="2743200" cy="1008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Wri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Path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120" idx="2"/>
          </p:cNvCxnSpPr>
          <p:nvPr/>
        </p:nvCxnSpPr>
        <p:spPr>
          <a:xfrm flipV="1">
            <a:off x="2133360" y="5190840"/>
            <a:ext cx="1080" cy="286560"/>
          </a:xfrm>
          <a:prstGeom prst="bentConnector2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46B1-DB44-4612-86BD-63C43EEF8E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1 Font Embedding (1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mbed shapes of glyphs plus metric information in PDF/PS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3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arge fi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1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difficult (binary, encrypted) represen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mpact format (filesize approx. factor 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ints for better display/rendering of fo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4465-528F-4BC6-84B7-EB863BA0EA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2 Font Embedding (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28720" y="2133720"/>
            <a:ext cx="4563000" cy="1008720"/>
            <a:chOff x="4428720" y="2133720"/>
            <a:chExt cx="4563000" cy="1008720"/>
          </a:xfrm>
        </p:grpSpPr>
        <p:cxnSp>
          <p:nvCxnSpPr>
            <p:cNvPr id="127" name=""/>
            <p:cNvCxnSpPr>
              <a:stCxn id="128" idx="3"/>
              <a:endCxn id="129" idx="1"/>
            </p:cNvCxnSpPr>
            <p:nvPr/>
          </p:nvCxnSpPr>
          <p:spPr>
            <a:xfrm flipV="1">
              <a:off x="4428720" y="2483640"/>
              <a:ext cx="600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5029200" y="2133720"/>
              <a:ext cx="396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cod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, 101, 108, 108, 111, 32, 103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200" y="2133720"/>
            <a:ext cx="4115520" cy="703800"/>
            <a:chOff x="304200" y="2133720"/>
            <a:chExt cx="4115520" cy="703800"/>
          </a:xfrm>
        </p:grpSpPr>
        <p:sp>
          <p:nvSpPr>
            <p:cNvPr id="128" name=""/>
            <p:cNvSpPr/>
            <p:nvPr/>
          </p:nvSpPr>
          <p:spPr>
            <a:xfrm>
              <a:off x="2743200" y="2133720"/>
              <a:ext cx="16765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xt showing op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28" idx="1"/>
            </p:cNvCxnSpPr>
            <p:nvPr/>
          </p:nvCxnSpPr>
          <p:spPr>
            <a:xfrm>
              <a:off x="1971360" y="2484000"/>
              <a:ext cx="762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200" y="213372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Hello Worl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43200" y="3429000"/>
            <a:ext cx="3876480" cy="703800"/>
            <a:chOff x="2743200" y="3429000"/>
            <a:chExt cx="3876480" cy="703800"/>
          </a:xfrm>
        </p:grpSpPr>
        <p:cxnSp>
          <p:nvCxnSpPr>
            <p:cNvPr id="134" name=""/>
            <p:cNvCxnSpPr>
              <a:stCxn id="135" idx="1"/>
              <a:endCxn id="136" idx="3"/>
            </p:cNvCxnSpPr>
            <p:nvPr/>
          </p:nvCxnSpPr>
          <p:spPr>
            <a:xfrm flipH="1" flipV="1">
              <a:off x="6082560" y="3779640"/>
              <a:ext cx="53748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743200" y="3429000"/>
              <a:ext cx="33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nam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H, /e, /l, /l, /o, /space, /W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9400" y="2835000"/>
            <a:ext cx="1905120" cy="1297800"/>
            <a:chOff x="6629400" y="2835000"/>
            <a:chExt cx="1905120" cy="1297800"/>
          </a:xfrm>
        </p:grpSpPr>
        <p:sp>
          <p:nvSpPr>
            <p:cNvPr id="135" name=""/>
            <p:cNvSpPr/>
            <p:nvPr/>
          </p:nvSpPr>
          <p:spPr>
            <a:xfrm>
              <a:off x="6629400" y="3429000"/>
              <a:ext cx="19051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ing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9" idx="2"/>
              <a:endCxn id="135" idx="0"/>
            </p:cNvCxnSpPr>
            <p:nvPr/>
          </p:nvCxnSpPr>
          <p:spPr>
            <a:xfrm>
              <a:off x="7010280" y="2835000"/>
              <a:ext cx="572400" cy="58500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33520" y="3429000"/>
            <a:ext cx="2209320" cy="703800"/>
            <a:chOff x="533520" y="3429000"/>
            <a:chExt cx="2209320" cy="703800"/>
          </a:xfrm>
        </p:grpSpPr>
        <p:sp>
          <p:nvSpPr>
            <p:cNvPr id="140" name=""/>
            <p:cNvSpPr/>
            <p:nvPr/>
          </p:nvSpPr>
          <p:spPr>
            <a:xfrm>
              <a:off x="533520" y="3429000"/>
              <a:ext cx="167616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yph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6" idx="1"/>
              <a:endCxn id="140" idx="3"/>
            </p:cNvCxnSpPr>
            <p:nvPr/>
          </p:nvCxnSpPr>
          <p:spPr>
            <a:xfrm flipH="1">
              <a:off x="2219040" y="3780000"/>
              <a:ext cx="52416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28600" y="4159080"/>
            <a:ext cx="2286000" cy="1421640"/>
            <a:chOff x="228600" y="4159080"/>
            <a:chExt cx="2286000" cy="1421640"/>
          </a:xfrm>
        </p:grpSpPr>
        <p:sp>
          <p:nvSpPr>
            <p:cNvPr id="143" name=""/>
            <p:cNvSpPr/>
            <p:nvPr/>
          </p:nvSpPr>
          <p:spPr>
            <a:xfrm>
              <a:off x="228600" y="48769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yph descriptions (shapes/pa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0"/>
            </p:cNvCxnSpPr>
            <p:nvPr/>
          </p:nvCxnSpPr>
          <p:spPr>
            <a:xfrm>
              <a:off x="1371240" y="4159080"/>
              <a:ext cx="1080" cy="71856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 txBox="1"/>
          <p:nvPr/>
        </p:nvSpPr>
        <p:spPr>
          <a:xfrm>
            <a:off x="2590920" y="48006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Times New Roman"/>
              </a:rPr>
              <a:t>Hello W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3810-0B20-4291-81A5-8E7A96D688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3 Generation of CharTabl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371600"/>
            <a:ext cx="2438640" cy="112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Tabl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Encod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Uni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6320" y="4257000"/>
            <a:ext cx="3060000" cy="1587240"/>
            <a:chOff x="1426320" y="4257000"/>
            <a:chExt cx="3060000" cy="1587240"/>
          </a:xfrm>
        </p:grpSpPr>
        <p:sp>
          <p:nvSpPr>
            <p:cNvPr id="149" name=""/>
            <p:cNvSpPr/>
            <p:nvPr/>
          </p:nvSpPr>
          <p:spPr>
            <a:xfrm>
              <a:off x="1426320" y="4257000"/>
              <a:ext cx="226332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1"/>
              <a:endCxn id="149" idx="4"/>
            </p:cNvCxnSpPr>
            <p:nvPr/>
          </p:nvCxnSpPr>
          <p:spPr>
            <a:xfrm flipV="1" rot="10800000">
              <a:off x="2556720" y="5264640"/>
              <a:ext cx="1929600" cy="158040"/>
            </a:xfrm>
            <a:prstGeom prst="curvedConnector5">
              <a:avLst>
                <a:gd name="adj1" fmla="val 24183"/>
                <a:gd name="adj2" fmla="val 183789"/>
                <a:gd name="adj3" fmla="val 24183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685800" y="2530080"/>
            <a:ext cx="4114800" cy="1727640"/>
            <a:chOff x="685800" y="2530080"/>
            <a:chExt cx="4114800" cy="1727640"/>
          </a:xfrm>
        </p:grpSpPr>
        <p:cxnSp>
          <p:nvCxnSpPr>
            <p:cNvPr id="153" name=""/>
            <p:cNvCxnSpPr>
              <a:stCxn id="154" idx="0"/>
              <a:endCxn id="147" idx="2"/>
            </p:cNvCxnSpPr>
            <p:nvPr/>
          </p:nvCxnSpPr>
          <p:spPr>
            <a:xfrm flipH="1" flipV="1" rot="5400000">
              <a:off x="290772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858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O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1572120" y="3272040"/>
              <a:ext cx="861120" cy="1110240"/>
            </a:xfrm>
            <a:prstGeom prst="curvedConnector5">
              <a:avLst>
                <a:gd name="adj1" fmla="val 49979"/>
                <a:gd name="adj2" fmla="val 49983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362320" y="2530080"/>
            <a:ext cx="2438280" cy="1727640"/>
            <a:chOff x="2362320" y="2530080"/>
            <a:chExt cx="2438280" cy="1727640"/>
          </a:xfrm>
        </p:grpSpPr>
        <p:cxnSp>
          <p:nvCxnSpPr>
            <p:cNvPr id="157" name=""/>
            <p:cNvCxnSpPr>
              <a:stCxn id="158" idx="0"/>
              <a:endCxn id="147" idx="2"/>
            </p:cNvCxnSpPr>
            <p:nvPr/>
          </p:nvCxnSpPr>
          <p:spPr>
            <a:xfrm flipH="1" flipV="1" rot="5400000">
              <a:off x="374580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3623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9" idx="0"/>
              <a:endCxn id="158" idx="2"/>
            </p:cNvCxnSpPr>
            <p:nvPr/>
          </p:nvCxnSpPr>
          <p:spPr>
            <a:xfrm flipH="1" flipV="1" rot="5400000">
              <a:off x="2410200" y="3543840"/>
              <a:ext cx="861120" cy="567360"/>
            </a:xfrm>
            <a:prstGeom prst="curvedConnector5">
              <a:avLst>
                <a:gd name="adj1" fmla="val 49979"/>
                <a:gd name="adj2" fmla="val 49968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557080" y="2530080"/>
            <a:ext cx="3005640" cy="1727640"/>
            <a:chOff x="2557080" y="2530080"/>
            <a:chExt cx="3005640" cy="1727640"/>
          </a:xfrm>
        </p:grpSpPr>
        <p:cxnSp>
          <p:nvCxnSpPr>
            <p:cNvPr id="161" name=""/>
            <p:cNvCxnSpPr>
              <a:stCxn id="162" idx="0"/>
              <a:endCxn id="147" idx="2"/>
            </p:cNvCxnSpPr>
            <p:nvPr/>
          </p:nvCxnSpPr>
          <p:spPr>
            <a:xfrm flipV="1">
              <a:off x="4800240" y="2530080"/>
              <a:ext cx="1080" cy="432720"/>
            </a:xfrm>
            <a:prstGeom prst="bentConnector2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038480" y="2971800"/>
              <a:ext cx="152424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49" idx="0"/>
              <a:endCxn id="162" idx="2"/>
            </p:cNvCxnSpPr>
            <p:nvPr/>
          </p:nvCxnSpPr>
          <p:spPr>
            <a:xfrm flipH="1" flipV="1" rot="5400000">
              <a:off x="3248280" y="2705400"/>
              <a:ext cx="861120" cy="2243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557440" y="2530080"/>
            <a:ext cx="6357960" cy="1727640"/>
            <a:chOff x="2557440" y="2530080"/>
            <a:chExt cx="6357960" cy="1727640"/>
          </a:xfrm>
        </p:grpSpPr>
        <p:cxnSp>
          <p:nvCxnSpPr>
            <p:cNvPr id="165" name=""/>
            <p:cNvCxnSpPr>
              <a:stCxn id="166" idx="0"/>
              <a:endCxn id="147" idx="2"/>
            </p:cNvCxnSpPr>
            <p:nvPr/>
          </p:nvCxnSpPr>
          <p:spPr>
            <a:xfrm flipV="1" rot="16200000">
              <a:off x="626040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73915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9" idx="0"/>
              <a:endCxn id="166" idx="2"/>
            </p:cNvCxnSpPr>
            <p:nvPr/>
          </p:nvCxnSpPr>
          <p:spPr>
            <a:xfrm flipH="1" flipV="1" rot="5400000">
              <a:off x="4924800" y="1029240"/>
              <a:ext cx="861120" cy="5596560"/>
            </a:xfrm>
            <a:prstGeom prst="curvedConnector5">
              <a:avLst>
                <a:gd name="adj1" fmla="val 49979"/>
                <a:gd name="adj2" fmla="val 49996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557440" y="2530080"/>
            <a:ext cx="4681440" cy="1727640"/>
            <a:chOff x="2557440" y="2530080"/>
            <a:chExt cx="4681440" cy="1727640"/>
          </a:xfrm>
        </p:grpSpPr>
        <p:cxnSp>
          <p:nvCxnSpPr>
            <p:cNvPr id="169" name=""/>
            <p:cNvCxnSpPr>
              <a:stCxn id="170" idx="0"/>
              <a:endCxn id="147" idx="2"/>
            </p:cNvCxnSpPr>
            <p:nvPr/>
          </p:nvCxnSpPr>
          <p:spPr>
            <a:xfrm flipV="1" rot="16200000">
              <a:off x="542232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7150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ngb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49" idx="0"/>
              <a:endCxn id="170" idx="2"/>
            </p:cNvCxnSpPr>
            <p:nvPr/>
          </p:nvCxnSpPr>
          <p:spPr>
            <a:xfrm flipH="1" flipV="1" rot="5400000">
              <a:off x="4086720" y="1867320"/>
              <a:ext cx="861120" cy="3920400"/>
            </a:xfrm>
            <a:prstGeom prst="curvedConnector5">
              <a:avLst>
                <a:gd name="adj1" fmla="val 49979"/>
                <a:gd name="adj2" fmla="val 49995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495680" y="4031640"/>
            <a:ext cx="4114800" cy="2597400"/>
            <a:chOff x="4495680" y="4031640"/>
            <a:chExt cx="4114800" cy="2597400"/>
          </a:xfrm>
        </p:grpSpPr>
        <p:sp>
          <p:nvSpPr>
            <p:cNvPr id="173" name=""/>
            <p:cNvSpPr/>
            <p:nvPr/>
          </p:nvSpPr>
          <p:spPr>
            <a:xfrm>
              <a:off x="4648320" y="4190760"/>
              <a:ext cx="3962160" cy="24382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114800"/>
              <a:ext cx="3962520" cy="24379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031640"/>
              <a:ext cx="3962520" cy="2463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##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A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W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DF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Æ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5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Á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acute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Â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ircumflex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Ä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dieresi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À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grav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Å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5FE8-A5F6-4617-B8D4-2658B8CDA2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295280"/>
            <a:ext cx="213372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1371600"/>
            <a:ext cx="4343400" cy="762120"/>
            <a:chOff x="2819520" y="1371600"/>
            <a:chExt cx="4343400" cy="762120"/>
          </a:xfrm>
        </p:grpSpPr>
        <p:cxnSp>
          <p:nvCxnSpPr>
            <p:cNvPr id="177" name=""/>
            <p:cNvCxnSpPr>
              <a:stCxn id="175" idx="6"/>
              <a:endCxn id="178" idx="2"/>
            </p:cNvCxnSpPr>
            <p:nvPr/>
          </p:nvCxnSpPr>
          <p:spPr>
            <a:xfrm>
              <a:off x="2819520" y="1752480"/>
              <a:ext cx="19821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00960" y="1371600"/>
              <a:ext cx="2361960" cy="7621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2133720"/>
            <a:ext cx="7086600" cy="1447560"/>
            <a:chOff x="914400" y="2133720"/>
            <a:chExt cx="7086600" cy="1447560"/>
          </a:xfrm>
        </p:grpSpPr>
        <p:sp>
          <p:nvSpPr>
            <p:cNvPr id="180" name=""/>
            <p:cNvSpPr/>
            <p:nvPr/>
          </p:nvSpPr>
          <p:spPr>
            <a:xfrm>
              <a:off x="34290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code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1480" y="3048120"/>
              <a:ext cx="191952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8" idx="4"/>
              <a:endCxn id="180" idx="0"/>
            </p:cNvCxnSpPr>
            <p:nvPr/>
          </p:nvCxnSpPr>
          <p:spPr>
            <a:xfrm flipH="1">
              <a:off x="4304520" y="2133720"/>
              <a:ext cx="16772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8" idx="4"/>
              <a:endCxn id="182" idx="0"/>
            </p:cNvCxnSpPr>
            <p:nvPr/>
          </p:nvCxnSpPr>
          <p:spPr>
            <a:xfrm>
              <a:off x="5981400" y="2133720"/>
              <a:ext cx="106092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5" name=""/>
            <p:cNvCxnSpPr>
              <a:stCxn id="178" idx="4"/>
              <a:endCxn id="181" idx="0"/>
            </p:cNvCxnSpPr>
            <p:nvPr/>
          </p:nvCxnSpPr>
          <p:spPr>
            <a:xfrm flipH="1">
              <a:off x="1790280" y="2133720"/>
              <a:ext cx="41918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1523880" y="3505320"/>
            <a:ext cx="1828800" cy="1447560"/>
            <a:chOff x="1523880" y="3505320"/>
            <a:chExt cx="1828800" cy="1447560"/>
          </a:xfrm>
        </p:grpSpPr>
        <p:cxnSp>
          <p:nvCxnSpPr>
            <p:cNvPr id="187" name=""/>
            <p:cNvCxnSpPr>
              <a:stCxn id="181" idx="4"/>
              <a:endCxn id="188" idx="0"/>
            </p:cNvCxnSpPr>
            <p:nvPr/>
          </p:nvCxnSpPr>
          <p:spPr>
            <a:xfrm>
              <a:off x="1866600" y="3505320"/>
              <a:ext cx="57204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4419720"/>
              <a:ext cx="182880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yphs from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52320" y="3504960"/>
            <a:ext cx="3772080" cy="1752840"/>
            <a:chOff x="3352320" y="3504960"/>
            <a:chExt cx="3772080" cy="1752840"/>
          </a:xfrm>
        </p:grpSpPr>
        <p:cxnSp>
          <p:nvCxnSpPr>
            <p:cNvPr id="190" name=""/>
            <p:cNvCxnSpPr>
              <a:stCxn id="188" idx="6"/>
              <a:endCxn id="191" idx="2"/>
            </p:cNvCxnSpPr>
            <p:nvPr/>
          </p:nvCxnSpPr>
          <p:spPr>
            <a:xfrm>
              <a:off x="3352320" y="4686480"/>
              <a:ext cx="1067400" cy="576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82" idx="4"/>
              <a:endCxn id="191" idx="5"/>
            </p:cNvCxnSpPr>
            <p:nvPr/>
          </p:nvCxnSpPr>
          <p:spPr>
            <a:xfrm flipH="1">
              <a:off x="6247440" y="3580920"/>
              <a:ext cx="877320" cy="9723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80" idx="4"/>
              <a:endCxn id="191" idx="0"/>
            </p:cNvCxnSpPr>
            <p:nvPr/>
          </p:nvCxnSpPr>
          <p:spPr>
            <a:xfrm>
              <a:off x="4381560" y="3504960"/>
              <a:ext cx="1048320" cy="533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419360" y="4038480"/>
              <a:ext cx="1828800" cy="1219320"/>
            </a:xfrm>
            <a:prstGeom prst="cube">
              <a:avLst>
                <a:gd name="adj" fmla="val 15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bedd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520" y="4419720"/>
            <a:ext cx="2819520" cy="2286000"/>
            <a:chOff x="6095520" y="4419720"/>
            <a:chExt cx="2819520" cy="2286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7162560" y="5105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6971400" y="3543480"/>
              <a:ext cx="609840" cy="2361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15" stAng="10800000" swAng="5400000"/>
                  <a:lnTo>
                    <a:pt x="13668" y="3945"/>
                  </a:lnTo>
                  <a:lnTo>
                    <a:pt x="13668" y="0"/>
                  </a:lnTo>
                  <a:lnTo>
                    <a:pt x="21600" y="6079"/>
                  </a:lnTo>
                  <a:lnTo>
                    <a:pt x="13668" y="12158"/>
                  </a:lnTo>
                  <a:lnTo>
                    <a:pt x="13668" y="8213"/>
                  </a:lnTo>
                  <a:lnTo>
                    <a:pt x="12427" y="8213"/>
                  </a:lnTo>
                  <a:arcTo wR="8159" hR="3947" stAng="16200000" swAng="-5400000"/>
                  <a:lnTo>
                    <a:pt x="426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6525e"/>
                </a:gs>
                <a:gs pos="50000">
                  <a:srgbClr val="30b2cc"/>
                </a:gs>
                <a:gs pos="100000">
                  <a:srgbClr val="1652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2819520"/>
            <a:ext cx="3124080" cy="1447560"/>
            <a:chOff x="2743200" y="2819520"/>
            <a:chExt cx="3124080" cy="1447560"/>
          </a:xfrm>
        </p:grpSpPr>
        <p:sp>
          <p:nvSpPr>
            <p:cNvPr id="198" name=""/>
            <p:cNvSpPr/>
            <p:nvPr/>
          </p:nvSpPr>
          <p:spPr>
            <a:xfrm>
              <a:off x="5333760" y="2819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9625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467480" y="1523880"/>
            <a:ext cx="990720" cy="685800"/>
          </a:xfrm>
          <a:prstGeom prst="foldedCorner">
            <a:avLst>
              <a:gd name="adj" fmla="val 280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F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4 Font Enbedding (3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3FCB-040F-4525-9064-DC76944331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0720" y="2876400"/>
            <a:ext cx="4267080" cy="1390680"/>
            <a:chOff x="990720" y="2876400"/>
            <a:chExt cx="4267080" cy="1390680"/>
          </a:xfrm>
        </p:grpSpPr>
        <p:sp>
          <p:nvSpPr>
            <p:cNvPr id="203" name=""/>
            <p:cNvSpPr/>
            <p:nvPr/>
          </p:nvSpPr>
          <p:spPr>
            <a:xfrm>
              <a:off x="3809880" y="3276720"/>
              <a:ext cx="1447920" cy="9903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3581280"/>
              <a:ext cx="167616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4"/>
              <a:endCxn id="204" idx="0"/>
            </p:cNvCxnSpPr>
            <p:nvPr/>
          </p:nvCxnSpPr>
          <p:spPr>
            <a:xfrm>
              <a:off x="1828440" y="2876400"/>
              <a:ext cx="1080" cy="6962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3"/>
              <a:endCxn id="203" idx="1"/>
            </p:cNvCxnSpPr>
            <p:nvPr/>
          </p:nvCxnSpPr>
          <p:spPr>
            <a:xfrm flipV="1">
              <a:off x="2676600" y="3771720"/>
              <a:ext cx="1124640" cy="1800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1295280" y="1969920"/>
            <a:ext cx="4029120" cy="1166760"/>
            <a:chOff x="1295280" y="1969920"/>
            <a:chExt cx="4029120" cy="1166760"/>
          </a:xfrm>
        </p:grpSpPr>
        <p:sp>
          <p:nvSpPr>
            <p:cNvPr id="209" name=""/>
            <p:cNvSpPr/>
            <p:nvPr/>
          </p:nvSpPr>
          <p:spPr>
            <a:xfrm>
              <a:off x="3886200" y="2286000"/>
              <a:ext cx="1438200" cy="53352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1969920"/>
              <a:ext cx="106704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6" idx="6"/>
              <a:endCxn id="209" idx="1"/>
            </p:cNvCxnSpPr>
            <p:nvPr/>
          </p:nvCxnSpPr>
          <p:spPr>
            <a:xfrm>
              <a:off x="2371320" y="2552400"/>
              <a:ext cx="1505880" cy="108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5 Font Embedding (4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08400" y="2876040"/>
            <a:ext cx="4716000" cy="3296160"/>
            <a:chOff x="608400" y="2876040"/>
            <a:chExt cx="4716000" cy="3296160"/>
          </a:xfrm>
        </p:grpSpPr>
        <p:cxnSp>
          <p:nvCxnSpPr>
            <p:cNvPr id="213" name=""/>
            <p:cNvCxnSpPr>
              <a:stCxn id="204" idx="2"/>
              <a:endCxn id="214" idx="0"/>
            </p:cNvCxnSpPr>
            <p:nvPr/>
          </p:nvCxnSpPr>
          <p:spPr>
            <a:xfrm>
              <a:off x="1828440" y="4006800"/>
              <a:ext cx="1080" cy="13946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grpSp>
          <p:nvGrpSpPr>
            <p:cNvPr id="215" name=""/>
            <p:cNvGrpSpPr/>
            <p:nvPr/>
          </p:nvGrpSpPr>
          <p:grpSpPr>
            <a:xfrm>
              <a:off x="608400" y="2876040"/>
              <a:ext cx="4716000" cy="3296160"/>
              <a:chOff x="608400" y="2876040"/>
              <a:chExt cx="4716000" cy="329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09880" y="5029200"/>
                <a:ext cx="1514520" cy="1143000"/>
              </a:xfrm>
              <a:prstGeom prst="bracePair">
                <a:avLst>
                  <a:gd name="adj" fmla="val 8333"/>
                </a:avLst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5410080"/>
                <a:ext cx="1676160" cy="7038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lyp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"/>
              <p:cNvCxnSpPr>
                <a:stCxn id="218" idx="0"/>
                <a:endCxn id="214" idx="0"/>
              </p:cNvCxnSpPr>
              <p:nvPr/>
            </p:nvCxnSpPr>
            <p:spPr>
              <a:xfrm flipH="1" rot="16200000">
                <a:off x="579240" y="4151880"/>
                <a:ext cx="1278720" cy="1220040"/>
              </a:xfrm>
              <a:prstGeom prst="bentConnector3">
                <a:avLst>
                  <a:gd name="adj1" fmla="val 50042"/>
                </a:avLst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8" idx="0"/>
                <a:endCxn id="206" idx="4"/>
              </p:cNvCxnSpPr>
              <p:nvPr/>
            </p:nvCxnSpPr>
            <p:spPr>
              <a:xfrm flipH="1" flipV="1" rot="5400000">
                <a:off x="832680" y="2652120"/>
                <a:ext cx="772560" cy="1220040"/>
              </a:xfrm>
              <a:prstGeom prst="bentConnector3">
                <a:avLst>
                  <a:gd name="adj1" fmla="val 49976"/>
                </a:avLst>
              </a:prstGeom>
              <a:ln w="19080">
                <a:solidFill>
                  <a:srgbClr val="ccccff"/>
                </a:solidFill>
                <a:miter/>
              </a:ln>
            </p:spPr>
          </p:cxnSp>
          <p:cxnSp>
            <p:nvCxnSpPr>
              <p:cNvPr id="220" name=""/>
              <p:cNvCxnSpPr>
                <a:stCxn id="214" idx="3"/>
                <a:endCxn id="216" idx="1"/>
              </p:cNvCxnSpPr>
              <p:nvPr/>
            </p:nvCxnSpPr>
            <p:spPr>
              <a:xfrm flipV="1">
                <a:off x="2676600" y="5600520"/>
                <a:ext cx="1124640" cy="18000"/>
              </a:xfrm>
              <a:prstGeom prst="straightConnector1">
                <a:avLst/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sp>
            <p:nvSpPr>
              <p:cNvPr id="221" name=""/>
              <p:cNvSpPr/>
              <p:nvPr/>
            </p:nvSpPr>
            <p:spPr>
              <a:xfrm>
                <a:off x="609480" y="3657600"/>
                <a:ext cx="0" cy="45720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4114800" y="1219320"/>
            <a:ext cx="4876920" cy="542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!FontType1-1.0: Monotype Corsiv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Generated by: org.freehep.graphics2d.FontEmbedderType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dict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FontInfo 8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ullName (Monotype Corsiva) readonly de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amilyName (Monotype Corsiva)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Encoding 256 arr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55 {1 index exch /.notdef put}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4 /breve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 /caron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5 /ydieresi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dict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Private 8 dict dup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index /CharStrings 230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breve 91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caron 40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ydieresis 360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.notdef 38 RD [binary data]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end readonly put noacces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FontName get exch definefon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1AD3-7E65-4112-BEA5-0402100176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6 Font Embedding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2253600"/>
            <a:ext cx="3771360" cy="1345680"/>
            <a:chOff x="304920" y="2253600"/>
            <a:chExt cx="3771360" cy="1345680"/>
          </a:xfrm>
        </p:grpSpPr>
        <p:sp>
          <p:nvSpPr>
            <p:cNvPr id="225" name=""/>
            <p:cNvSpPr/>
            <p:nvPr/>
          </p:nvSpPr>
          <p:spPr>
            <a:xfrm>
              <a:off x="304920" y="2895480"/>
              <a:ext cx="243828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ntInclu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5" idx="0"/>
              <a:endCxn id="227" idx="2"/>
            </p:cNvCxnSpPr>
            <p:nvPr/>
          </p:nvCxnSpPr>
          <p:spPr>
            <a:xfrm flipV="1">
              <a:off x="1523520" y="2253600"/>
              <a:ext cx="2553120" cy="63252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227" name=""/>
          <p:cNvSpPr/>
          <p:nvPr/>
        </p:nvSpPr>
        <p:spPr>
          <a:xfrm>
            <a:off x="2743200" y="1828800"/>
            <a:ext cx="266688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048120"/>
            <a:ext cx="221004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7" idx="2"/>
          </p:cNvCxnSpPr>
          <p:nvPr/>
        </p:nvCxnSpPr>
        <p:spPr>
          <a:xfrm flipH="1" flipV="1">
            <a:off x="4076280" y="2253960"/>
            <a:ext cx="1524960" cy="7848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556272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Typ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0" idx="2"/>
          </p:cNvCxnSpPr>
          <p:nvPr/>
        </p:nvCxnSpPr>
        <p:spPr>
          <a:xfrm flipV="1">
            <a:off x="765792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0"/>
            <a:endCxn id="228" idx="2"/>
          </p:cNvCxnSpPr>
          <p:nvPr/>
        </p:nvCxnSpPr>
        <p:spPr>
          <a:xfrm flipH="1" flipV="1">
            <a:off x="5600520" y="3472560"/>
            <a:ext cx="205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429000" y="434340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56272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4" idx="2"/>
          </p:cNvCxnSpPr>
          <p:nvPr/>
        </p:nvCxnSpPr>
        <p:spPr>
          <a:xfrm flipV="1">
            <a:off x="453348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0"/>
            <a:endCxn id="228" idx="2"/>
          </p:cNvCxnSpPr>
          <p:nvPr/>
        </p:nvCxnSpPr>
        <p:spPr>
          <a:xfrm flipV="1">
            <a:off x="4533840" y="3472560"/>
            <a:ext cx="106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04920" y="5562720"/>
            <a:ext cx="24382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</p:cNvCxnSpPr>
          <p:nvPr/>
        </p:nvCxnSpPr>
        <p:spPr>
          <a:xfrm flipV="1">
            <a:off x="1523520" y="3962160"/>
            <a:ext cx="1080" cy="1591200"/>
          </a:xfrm>
          <a:prstGeom prst="bentConnector2">
            <a:avLst/>
          </a:prstGeom>
          <a:ln w="28440">
            <a:solidFill>
              <a:srgbClr val="ccecff"/>
            </a:solidFill>
            <a:miter/>
          </a:ln>
        </p:spPr>
      </p:cxnSp>
      <p:cxnSp>
        <p:nvCxnSpPr>
          <p:cNvPr id="240" name=""/>
          <p:cNvCxnSpPr>
            <a:endCxn id="228" idx="2"/>
          </p:cNvCxnSpPr>
          <p:nvPr/>
        </p:nvCxnSpPr>
        <p:spPr>
          <a:xfrm flipV="1">
            <a:off x="1523520" y="3472920"/>
            <a:ext cx="4077720" cy="4896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6B08-E8CA-4EC9-97A9-76A9C38C4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 Todo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umbnails and bookmarks for PDF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clic gradient and custom fil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d hints to type 1 fo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gress bar for exporting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D53E-2294-48B6-A7A9-569A82B78F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ckage structure and inheritance tre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ser’s view: example and dem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 inclu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31B6-A6C9-4FB0-9BA1-9ABBF445E5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ocument"/>
          <p:cNvSpPr/>
          <p:nvPr/>
        </p:nvSpPr>
        <p:spPr>
          <a:xfrm rot="5400000">
            <a:off x="7315200" y="4190760"/>
            <a:ext cx="144756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1 Featur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port graphics displayed on the screen to a fi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 a portable format (PDF, P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dependent of the generating application (e.g. JAS/WIRE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dditional features (limited html strings, symbols…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bclass the </a:t>
            </a:r>
            <a:r>
              <a:rPr b="0" lang="en-US" sz="2800" spc="-1" strike="noStrike">
                <a:solidFill>
                  <a:srgbClr val="ccecff"/>
                </a:solidFill>
                <a:latin typeface="Courier New"/>
              </a:rPr>
              <a:t>java.awt.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asily export everything that can be rendered by a graphics con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computr1"/>
          <p:cNvSpPr/>
          <p:nvPr/>
        </p:nvSpPr>
        <p:spPr>
          <a:xfrm>
            <a:off x="7029360" y="1447920"/>
            <a:ext cx="1962360" cy="196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z-plots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rz-plots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121896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97160" y="44956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5053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5E69-CB68-4EDB-A1FD-D34842D7DE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2 Division of Work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 we built 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rk Dönszelmann: PDF writer and utiliti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arles Loomis: PSGraphics and VectorGraphics interfac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’s new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ype1 and Type3 font embedding both for ps and pd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ultipage outp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5239-88FD-494D-9B28-3FF0AFBC3D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16292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162920" cy="304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17480" y="2177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84240" y="427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1 The </a:t>
            </a:r>
            <a:r>
              <a:rPr b="1" lang="en-US" sz="36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Inheritance Tre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19520" y="5119200"/>
            <a:ext cx="2971800" cy="1451880"/>
            <a:chOff x="2819520" y="5119200"/>
            <a:chExt cx="2971800" cy="1451880"/>
          </a:xfrm>
        </p:grpSpPr>
        <p:sp>
          <p:nvSpPr>
            <p:cNvPr id="63" name=""/>
            <p:cNvSpPr/>
            <p:nvPr/>
          </p:nvSpPr>
          <p:spPr>
            <a:xfrm>
              <a:off x="2819520" y="5562720"/>
              <a:ext cx="2743200" cy="1008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ctorGraphics2D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rapp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3" idx="0"/>
              <a:endCxn id="65" idx="2"/>
            </p:cNvCxnSpPr>
            <p:nvPr/>
          </p:nvCxnSpPr>
          <p:spPr>
            <a:xfrm flipV="1">
              <a:off x="4190760" y="5119200"/>
              <a:ext cx="16009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7" idx="2"/>
            </p:cNvCxnSpPr>
            <p:nvPr/>
          </p:nvCxnSpPr>
          <p:spPr>
            <a:xfrm flipH="1" flipV="1">
              <a:off x="3047400" y="5119200"/>
              <a:ext cx="11437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495680" y="1523880"/>
            <a:ext cx="2590920" cy="3568680"/>
            <a:chOff x="4495680" y="1523880"/>
            <a:chExt cx="2590920" cy="3568680"/>
          </a:xfrm>
        </p:grpSpPr>
        <p:sp>
          <p:nvSpPr>
            <p:cNvPr id="69" name=""/>
            <p:cNvSpPr/>
            <p:nvPr/>
          </p:nvSpPr>
          <p:spPr>
            <a:xfrm>
              <a:off x="4495680" y="1523880"/>
              <a:ext cx="2590920" cy="1557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1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Lin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tring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mag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9880"/>
              <a:ext cx="2590920" cy="1282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2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(Shape)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ransform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Stroke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0"/>
              <a:endCxn id="69" idx="2"/>
            </p:cNvCxnSpPr>
            <p:nvPr/>
          </p:nvCxnSpPr>
          <p:spPr>
            <a:xfrm flipV="1">
              <a:off x="5790960" y="3107520"/>
              <a:ext cx="1080" cy="693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057400" y="1828800"/>
            <a:ext cx="197964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Lin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Str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mag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198108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(Shap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ransfor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ok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71" idx="2"/>
          </p:cNvCxnSpPr>
          <p:nvPr/>
        </p:nvCxnSpPr>
        <p:spPr>
          <a:xfrm flipV="1">
            <a:off x="3047760" y="3137760"/>
            <a:ext cx="1080" cy="662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47F7-052A-4A25-8F20-85214BB6F8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Vector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Implement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urier New"/>
              </a:rPr>
              <a:t>VectorGraphics2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mplementa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ixel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S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VG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ditional Exportfilters for bitmap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if, png, pp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1D1E-1CF3-4240-B048-371FC02DDE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 Additional Utility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752480"/>
            <a:ext cx="3733560" cy="2906280"/>
            <a:chOff x="762120" y="1752480"/>
            <a:chExt cx="3733560" cy="2906280"/>
          </a:xfrm>
        </p:grpSpPr>
        <p:sp>
          <p:nvSpPr>
            <p:cNvPr id="77" name=""/>
            <p:cNvSpPr/>
            <p:nvPr/>
          </p:nvSpPr>
          <p:spPr>
            <a:xfrm>
              <a:off x="762120" y="2590920"/>
              <a:ext cx="3733560" cy="2067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ctorGraphics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ng of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ion of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1752480"/>
              <a:ext cx="37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Methods common to all forma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1752480"/>
            <a:ext cx="3581280" cy="4343400"/>
            <a:chOff x="5105520" y="1752480"/>
            <a:chExt cx="3581280" cy="4343400"/>
          </a:xfrm>
        </p:grpSpPr>
        <p:sp>
          <p:nvSpPr>
            <p:cNvPr id="80" name=""/>
            <p:cNvSpPr/>
            <p:nvPr/>
          </p:nvSpPr>
          <p:spPr>
            <a:xfrm>
              <a:off x="5105520" y="1752480"/>
              <a:ext cx="3581280" cy="434340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4343400"/>
                <a:gd name="textAreaBottom" fmla="*/ 4168800 h 434340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52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choo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4" idx="0"/>
              <a:endCxn id="85" idx="2"/>
            </p:cNvCxnSpPr>
            <p:nvPr/>
          </p:nvCxnSpPr>
          <p:spPr>
            <a:xfrm flipV="1">
              <a:off x="6857640" y="328572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86" name=""/>
            <p:cNvGrpSpPr/>
            <p:nvPr/>
          </p:nvGrpSpPr>
          <p:grpSpPr>
            <a:xfrm>
              <a:off x="5486400" y="3352680"/>
              <a:ext cx="2743200" cy="1450440"/>
              <a:chOff x="5486400" y="3352680"/>
              <a:chExt cx="2743200" cy="1450440"/>
            </a:xfrm>
          </p:grpSpPr>
          <p:sp>
            <p:nvSpPr>
              <p:cNvPr id="84" name=""/>
              <p:cNvSpPr/>
              <p:nvPr/>
            </p:nvSpPr>
            <p:spPr>
              <a:xfrm>
                <a:off x="5486400" y="3581280"/>
                <a:ext cx="2743200" cy="1221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xportGraphics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ileType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etConfiguredGraphics(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ortToFile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3600" y="3352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86400" y="2362320"/>
              <a:ext cx="2743200" cy="914400"/>
              <a:chOff x="5486400" y="2362320"/>
              <a:chExt cx="2743200" cy="9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5486400" y="2362320"/>
                <a:ext cx="2743200" cy="612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ortDialog</a:t>
                </a:r>
                <a:br>
                  <a:rPr sz="20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wExportDialog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1680" y="3048120"/>
                <a:ext cx="15264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33600" y="3048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1" name=""/>
            <p:cNvCxnSpPr>
              <a:stCxn id="82" idx="0"/>
              <a:endCxn id="84" idx="2"/>
            </p:cNvCxnSpPr>
            <p:nvPr/>
          </p:nvCxnSpPr>
          <p:spPr>
            <a:xfrm flipV="1">
              <a:off x="579096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"/>
            <p:cNvSpPr/>
            <p:nvPr/>
          </p:nvSpPr>
          <p:spPr>
            <a:xfrm>
              <a:off x="640080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4" idx="2"/>
            </p:cNvCxnSpPr>
            <p:nvPr/>
          </p:nvCxnSpPr>
          <p:spPr>
            <a:xfrm flipV="1">
              <a:off x="6857640" y="4828320"/>
              <a:ext cx="1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5" idx="0"/>
              <a:endCxn id="84" idx="2"/>
            </p:cNvCxnSpPr>
            <p:nvPr/>
          </p:nvCxnSpPr>
          <p:spPr>
            <a:xfrm flipH="1" flipV="1">
              <a:off x="685728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46748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A230-70E2-42C3-A8B4-53D32B3B28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3.1 Code Exampl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763120" cy="4863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omponent compon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String 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DFGraphics2D graphic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PDFGraphics2D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PDFGraphics2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component.getSize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ew FileOutputStream(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.writeHeader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mponent.printAll(graphic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graphics.donePrint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2728-1D05-4EA9-9131-890852765E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800000">
            <a:off x="1199880" y="2787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 Black"/>
              </a:rPr>
              <a:t>D E M O</a:t>
            </a:r>
            <a:endParaRPr b="1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2381-0BF2-4EFC-828B-CBF5041A8F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34:51Z</dcterms:created>
  <dc:creator>Simon Fischer</dc:creator>
  <dc:description/>
  <dc:language>en-US</dc:language>
  <cp:lastModifiedBy>Mark Donszelmann</cp:lastModifiedBy>
  <dcterms:modified xsi:type="dcterms:W3CDTF">2001-08-23T13:47:28Z</dcterms:modified>
  <cp:revision>145</cp:revision>
  <dc:subject/>
  <dc:title>PowerPoint Presentation</dc:title>
</cp:coreProperties>
</file>