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8461-7516-4D59-B1D4-D0C5435D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12C5-D489-4878-9838-299B5879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F81-3410-4D1E-9615-18AAA66B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9BD-2FC6-4CA1-9362-160B045C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862-5141-4904-A90D-A6845F11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7AF-787D-4731-816C-104967CF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787-3F45-4B8F-8775-F380596F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DD9-7A68-430D-B620-88043A35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1F6-817F-41E8-AC66-CDFA4B77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715-FF85-4139-B227-D582A14A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7D99-A1B8-4E92-9E90-9E75B381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3A44-8085-4784-B610-03F97314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0DE1-525E-4402-805A-544AC91DB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57200" y="1027080"/>
            <a:ext cx="8303400" cy="4763880"/>
            <a:chOff x="457200" y="1027080"/>
            <a:chExt cx="8303400" cy="4763880"/>
          </a:xfrm>
        </p:grpSpPr>
        <p:sp>
          <p:nvSpPr>
            <p:cNvPr id="43" name=""/>
            <p:cNvSpPr/>
            <p:nvPr/>
          </p:nvSpPr>
          <p:spPr>
            <a:xfrm>
              <a:off x="3304800" y="5180040"/>
              <a:ext cx="5455800" cy="61092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ava IO stre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"/>
            <p:cNvCxnSpPr>
              <a:stCxn id="45" idx="2"/>
              <a:endCxn id="46" idx="1"/>
            </p:cNvCxnSpPr>
            <p:nvPr/>
          </p:nvCxnSpPr>
          <p:spPr>
            <a:xfrm flipH="1" rot="16200000">
              <a:off x="2306880" y="1401480"/>
              <a:ext cx="334800" cy="1661760"/>
            </a:xfrm>
            <a:prstGeom prst="bent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7" name=""/>
            <p:cNvSpPr/>
            <p:nvPr/>
          </p:nvSpPr>
          <p:spPr>
            <a:xfrm>
              <a:off x="3304800" y="4332240"/>
              <a:ext cx="5455800" cy="61020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eeHEP IO stre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04800" y="2806920"/>
              <a:ext cx="5455800" cy="14238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eeHEP Graphics IO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w-level format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CGM, EMF, PDF and SW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04800" y="2094840"/>
              <a:ext cx="5455800" cy="610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eHEP VectorGraph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7200" y="1027080"/>
              <a:ext cx="2372760" cy="10382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eHE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ortDia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04800" y="1027080"/>
              <a:ext cx="5455800" cy="6102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ava Graphics2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20:03:58Z</dcterms:modified>
  <cp:revision>27</cp:revision>
  <dc:subject/>
  <dc:title>Slide 1</dc:title>
</cp:coreProperties>
</file>