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591D-F9C2-4D4B-B65C-0B1CD4748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6411D-CB58-48BE-9085-D5EDCE0F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25B7-ACE6-4C56-BE75-8A0C2EFA3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6EBC-08E7-4B6D-90BE-9EBB50A0A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FDAC-8C8D-43E3-84DD-F02F040C2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C4E1-11A4-48F9-A592-53190CD54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CBBA-C4F2-4658-AFF2-18C971612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B0DA-2C9C-427C-8E22-DBA28B58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69D42-757A-43D5-BC0E-FA754E9E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79CF-F141-40E4-810B-C999A173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2EAD-0B8E-4A63-88A0-69D32C2BD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7CDB-FDA3-40CE-AA9F-788B82959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A716-6FE0-4574-971A-4D1E3A9262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3880" y="71280"/>
            <a:ext cx="7896240" cy="6715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71640" y="1044720"/>
            <a:ext cx="6480000" cy="4950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549360"/>
            <a:ext cx="1439640" cy="495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1539720"/>
            <a:ext cx="270036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7000" y="1539720"/>
            <a:ext cx="3644640" cy="202428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71640" y="3654360"/>
            <a:ext cx="6480000" cy="2970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497720" y="1852560"/>
            <a:ext cx="719280" cy="58572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97720" y="2484360"/>
            <a:ext cx="719280" cy="495360"/>
          </a:xfrm>
          <a:prstGeom prst="roundRect">
            <a:avLst>
              <a:gd name="adj" fmla="val 6037"/>
            </a:avLst>
          </a:prstGeom>
          <a:noFill/>
          <a:ln w="38160">
            <a:solidFill>
              <a:srgbClr val="cc0000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2480" y="511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3640" y="10447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94800" y="1590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6120" y="3789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7059240" y="1593720"/>
            <a:ext cx="311760" cy="36828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229240" y="1776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29240" y="2484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 Black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6T11:23:30Z</dcterms:created>
  <dc:creator>Toru Furukawa</dc:creator>
  <dc:description/>
  <dc:language>en-US</dc:language>
  <cp:lastModifiedBy>Toru Furukawa</cp:lastModifiedBy>
  <dcterms:modified xsi:type="dcterms:W3CDTF">2007-05-26T11:49:05Z</dcterms:modified>
  <cp:revision>2</cp:revision>
  <dc:subject/>
  <dc:title>スライド 1</dc:title>
</cp:coreProperties>
</file>