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A84F1-EF5A-484A-8999-8EBF9EB55CC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ADE47-D629-4501-99F5-6914C6E52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3E3B6-3526-4D7B-920A-10D306A1B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C9558-420B-4981-8C2D-DF66C396E0C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A0ED0-F101-4568-8ADC-E71F6ED4A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FDA39-64BA-4948-8F4B-3537E2F79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2DBAF-2915-4CB1-BC9B-BBF988BA2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85759-CF7A-4F13-A2C0-199D5BF46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0A003-6115-45D4-8A29-CBFA3B0EE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DDF71-DB1C-4086-89CF-D34103682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A1B0A-E41C-47D5-ABA0-282D01A0F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DBBBD-ED3D-4C9B-94D4-19B58093D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12B243B3-08E9-4258-9817-99C46F6703B0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191120" y="5029200"/>
            <a:ext cx="451944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NDC and TSI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SIG to protect AXF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riving a secr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nssec-keygen -a ... -b ... -n... nam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figuring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, same syntax as for rnd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key { algorithm ...; secret ...;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ing use of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erver x { key ...; 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ere 'x' is an IP number of the other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CC72A-4B10-4445-9F72-4703A432D18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ation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Prim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46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35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master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3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Second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35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46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slave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masters {10.33.40.46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27280" y="5907240"/>
            <a:ext cx="72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gain, the secret looks okay, but is purposely invali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411FD-9E1D-435F-8CA7-D6C016D394BB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IME!!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is time sensitive - to stop repla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ssage protection expires in 5 minu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ke sure time is synchroniz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testing, set the 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operations, (secure) NTP is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71094-A4F0-4265-8BE4-94FB936FB86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uses of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was designed for other purpo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tecting sensitive stub resol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s has proven hard to accompli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ynamic Upd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iscussed later, securing this relies on TS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BE28B-BB5F-4893-93C8-46B23B6AA69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ternatives to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G (0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blic key approach to same servi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potential, but not much experience y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ans to start with SIG(0) and wind up with TS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so, Microsoft uses this with Kerberos via GSSAP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69604-5447-4279-9048-97D9792ECE2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RNDC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mote Name Daemon Controll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and-line control of named daem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ually on same host, can be across ho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6DDE1-33FD-46E3-A497-EBC1CA31948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ing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"rndc-conf" generates lines to be added to two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ndc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C5C22-D439-49C7-8AB1-7ED812008E3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nabling RNDC in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key defin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 rndc_key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secret "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Y7/uIiR0fKGvi5z50+Q==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"; algorithm hmac-md5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arning: example secret looks good but is invalid (don't copy it!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trols statem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controls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inet 127.0.0.1 port 953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allow { 127.0.0.1; }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s { "rndc-key"; 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A57EB-B357-4F2D-B5D4-11347D9870A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an rndc.conf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etc/rndc.conf specifies defaults for rnd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.g.,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key "rndc-key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algorithm hmac-md5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secret "dY7/uIiR0fKGvi5z50+Q==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key "rndc-key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server 127.0.0.1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port 953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8E608-A536-4496-8A02-979D22E59CD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can be done with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op - kills serv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us - prints some inform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s - generates stat file (named.stat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reload - refresh zone(s), w/varia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trace - increases debug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flush - removes cached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commands in the AR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8FD57-BDF4-4991-9E01-28CCE38BBB5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TSI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mechanism for protecting a message from a resolver to server and vice vers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keyed-hash is applied (like a digital signature) so recipient can verify messa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a shared secret - both sender and reciever are configured with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3A9FE-0D33-4321-AF9C-09948725D1E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SIG and Message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"/>
          <p:cNvSpPr/>
          <p:nvPr/>
        </p:nvSpPr>
        <p:spPr>
          <a:xfrm>
            <a:off x="2895480" y="18288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Hea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2666880"/>
            <a:ext cx="2438640" cy="83844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Questio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95480" y="350532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95480" y="43434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uthority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5181480"/>
            <a:ext cx="2438640" cy="91440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ditional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&amp; TSIG dat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1752480"/>
            <a:ext cx="3353040" cy="3886200"/>
          </a:xfrm>
          <a:prstGeom prst="rect">
            <a:avLst/>
          </a:prstGeom>
          <a:noFill/>
          <a:ln w="38160">
            <a:solidFill>
              <a:srgbClr val="01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97480" y="2743200"/>
            <a:ext cx="15494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’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iginal Message Forma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B57FA-009D-4854-9468-9CAE218F558F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Secre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name is given to the key, the name is what is transmitted in the message (so receiver knows what key the sender used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secret va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value determined during key gen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sually seen in Base64 encod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'Looks' like the rndc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 uses same interface for TSIG and RNDC key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7775A-750E-4976-9671-1BE2F73B209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1T16:17:50Z</dcterms:created>
  <dc:creator>edward lewis</dc:creator>
  <dc:description/>
  <dc:language>en-US</dc:language>
  <cp:lastModifiedBy>Marmaduke Wildebeeste</cp:lastModifiedBy>
  <cp:lastPrinted>2003-02-20T08:17:40Z</cp:lastPrinted>
  <dcterms:modified xsi:type="dcterms:W3CDTF">2003-06-01T20:50:02Z</dcterms:modified>
  <cp:revision>25</cp:revision>
  <dc:subject/>
  <dc:title>PowerPoint Presentation  -  RNDC and TSIG</dc:title>
</cp:coreProperties>
</file>