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6D987-9D3B-4AE9-80E6-30BF0649F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381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28240" y="4020840"/>
            <a:ext cx="8381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FAE95-0283-46A8-BA18-3B041E389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22824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2340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24AE6-92E2-4C9C-BAF7-FB03DCBEC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062160" y="175212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5896080" y="175212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228240" y="402084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062160" y="402084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5896080" y="402084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23472-1871-49D1-8AD6-4D55C41B0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37C3B-CCFA-4BC9-9C1E-7D8C4B64B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22824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19B35-E2BC-44AE-8B64-A9766BD07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60F50-2FFF-4F80-AEA3-E3E6C0B12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0B05F-F420-4081-AE74-1EC9E25B7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A669D-7973-46B7-B9BB-833B07219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228240" y="380520"/>
            <a:ext cx="8381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0CD38-6B54-48C0-A3FC-B0240F05D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2824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84AC2-E4AE-47B7-8EEE-CCD9E0FEC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22824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7264D-90EC-4282-911E-7E5E02DAF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2340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A2FA6-66F3-4011-AD36-16B0DBD6C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228240" y="4020840"/>
            <a:ext cx="8381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B48B2-712A-4ED2-BD21-425AF8EDE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381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28240" y="4020840"/>
            <a:ext cx="8381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26476-3F06-43A9-BD39-5B0BBF095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22824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2340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3BC4F-B260-4172-94F9-89CE85D7B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062160" y="175212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896080" y="175212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228240" y="402084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062160" y="402084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896080" y="402084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9FFC3-1871-4DC1-87D6-2BD93E110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EEAF1-0265-4992-9F3A-F58CF7346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CE71E-A154-4806-9CAF-BA01BD00F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085CD-5C21-4CB4-8E25-E8D3CB140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228240" y="380520"/>
            <a:ext cx="8381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B4039-ACF0-4B24-8250-20F421F19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2824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46D26-D292-45BB-927A-3572FACED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2340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945F7-59F9-42E6-A759-C2138EBD7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28240" y="4020840"/>
            <a:ext cx="8381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750C5-3415-49D0-BD77-73E0B9284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70600"/>
            <a:chOff x="0" y="0"/>
            <a:chExt cx="9144000" cy="6870600"/>
          </a:xfrm>
        </p:grpSpPr>
        <p:sp>
          <p:nvSpPr>
            <p:cNvPr id="1" name=""/>
            <p:cNvSpPr/>
            <p:nvPr/>
          </p:nvSpPr>
          <p:spPr>
            <a:xfrm>
              <a:off x="6248520" y="6095880"/>
              <a:ext cx="2743200" cy="76212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" name="maneki" descr=""/>
            <p:cNvPicPr/>
            <p:nvPr/>
          </p:nvPicPr>
          <p:blipFill>
            <a:blip r:embed="rId2"/>
            <a:stretch/>
          </p:blipFill>
          <p:spPr>
            <a:xfrm>
              <a:off x="7518240" y="5029200"/>
              <a:ext cx="1100160" cy="159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8763120" y="0"/>
              <a:ext cx="75960" cy="685800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8839080" y="0"/>
              <a:ext cx="304920" cy="6870600"/>
              <a:chOff x="8839080" y="0"/>
              <a:chExt cx="304920" cy="6870600"/>
            </a:xfrm>
          </p:grpSpPr>
          <p:sp>
            <p:nvSpPr>
              <p:cNvPr id="5" name=""/>
              <p:cNvSpPr/>
              <p:nvPr/>
            </p:nvSpPr>
            <p:spPr>
              <a:xfrm>
                <a:off x="8839080" y="0"/>
                <a:ext cx="304920" cy="6858000"/>
              </a:xfrm>
              <a:prstGeom prst="rect">
                <a:avLst/>
              </a:prstGeom>
              <a:solidFill>
                <a:srgbClr val="c127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839080" y="0"/>
                <a:ext cx="304920" cy="457200"/>
              </a:xfrm>
              <a:prstGeom prst="rect">
                <a:avLst/>
              </a:prstGeom>
              <a:gradFill rotWithShape="0">
                <a:gsLst>
                  <a:gs pos="0">
                    <a:srgbClr val="591212"/>
                  </a:gs>
                  <a:gs pos="100000">
                    <a:srgbClr val="c1272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839080" y="6413400"/>
                <a:ext cx="304920" cy="457200"/>
              </a:xfrm>
              <a:prstGeom prst="rect">
                <a:avLst/>
              </a:prstGeom>
              <a:gradFill rotWithShape="0">
                <a:gsLst>
                  <a:gs pos="0">
                    <a:srgbClr val="c12727"/>
                  </a:gs>
                  <a:gs pos="100000">
                    <a:srgbClr val="59121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8763120" cy="7632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6781680"/>
              <a:ext cx="8763120" cy="7632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22824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1" marL="743040" indent="-285840">
              <a:spcBef>
                <a:spcPts val="799"/>
              </a:spcBef>
              <a:buClr>
                <a:srgbClr val="996600"/>
              </a:buClr>
              <a:buSzPct val="75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2" marL="1143000" indent="-228600">
              <a:spcBef>
                <a:spcPts val="799"/>
              </a:spcBef>
              <a:buClr>
                <a:srgbClr val="c12727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3" marL="1600200" indent="-228600">
              <a:spcBef>
                <a:spcPts val="799"/>
              </a:spcBef>
              <a:buClr>
                <a:srgbClr val="9966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228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Impac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2438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Impac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5638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FC8F3-6422-4066-9F1B-A40A4221637B}" type="slidenum">
              <a:rPr b="0" lang="ja-JP" sz="1400" spc="-1" strike="noStrike">
                <a:solidFill>
                  <a:srgbClr val="000000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0" y="0"/>
            <a:ext cx="9144000" cy="6870600"/>
            <a:chOff x="0" y="0"/>
            <a:chExt cx="9144000" cy="6870600"/>
          </a:xfrm>
        </p:grpSpPr>
        <p:sp>
          <p:nvSpPr>
            <p:cNvPr id="53" name=""/>
            <p:cNvSpPr/>
            <p:nvPr/>
          </p:nvSpPr>
          <p:spPr>
            <a:xfrm>
              <a:off x="6248520" y="6095880"/>
              <a:ext cx="2743200" cy="76212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4" name="maneki" descr=""/>
            <p:cNvPicPr/>
            <p:nvPr/>
          </p:nvPicPr>
          <p:blipFill>
            <a:blip r:embed="rId2"/>
            <a:stretch/>
          </p:blipFill>
          <p:spPr>
            <a:xfrm>
              <a:off x="7518240" y="5029200"/>
              <a:ext cx="1100160" cy="159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8763120" y="0"/>
              <a:ext cx="75960" cy="685800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8839080" y="0"/>
              <a:ext cx="304920" cy="6870600"/>
              <a:chOff x="8839080" y="0"/>
              <a:chExt cx="304920" cy="6870600"/>
            </a:xfrm>
          </p:grpSpPr>
          <p:sp>
            <p:nvSpPr>
              <p:cNvPr id="57" name=""/>
              <p:cNvSpPr/>
              <p:nvPr/>
            </p:nvSpPr>
            <p:spPr>
              <a:xfrm>
                <a:off x="8839080" y="0"/>
                <a:ext cx="304920" cy="6858000"/>
              </a:xfrm>
              <a:prstGeom prst="rect">
                <a:avLst/>
              </a:prstGeom>
              <a:solidFill>
                <a:srgbClr val="c127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839080" y="0"/>
                <a:ext cx="304920" cy="457200"/>
              </a:xfrm>
              <a:prstGeom prst="rect">
                <a:avLst/>
              </a:prstGeom>
              <a:gradFill rotWithShape="0">
                <a:gsLst>
                  <a:gs pos="0">
                    <a:srgbClr val="591212"/>
                  </a:gs>
                  <a:gs pos="100000">
                    <a:srgbClr val="c1272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839080" y="6413400"/>
                <a:ext cx="304920" cy="457200"/>
              </a:xfrm>
              <a:prstGeom prst="rect">
                <a:avLst/>
              </a:prstGeom>
              <a:gradFill rotWithShape="0">
                <a:gsLst>
                  <a:gs pos="0">
                    <a:srgbClr val="c12727"/>
                  </a:gs>
                  <a:gs pos="100000">
                    <a:srgbClr val="59121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0" y="0"/>
              <a:ext cx="8763120" cy="7632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6781680"/>
              <a:ext cx="8763120" cy="7632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dt" idx="4"/>
          </p:nvPr>
        </p:nvSpPr>
        <p:spPr>
          <a:xfrm>
            <a:off x="228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Impac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ftr" idx="5"/>
          </p:nvPr>
        </p:nvSpPr>
        <p:spPr>
          <a:xfrm>
            <a:off x="2438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Impac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sldNum" idx="6"/>
          </p:nvPr>
        </p:nvSpPr>
        <p:spPr>
          <a:xfrm>
            <a:off x="5638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2E2E2-9961-4E27-BF4B-46FF65088272}" type="slidenum">
              <a:rPr b="0" lang="ja-JP" sz="1400" spc="-1" strike="noStrike">
                <a:solidFill>
                  <a:srgbClr val="000000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mpac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  <a:p>
            <a:pPr lvl="2" marL="914400" algn="ctr">
              <a:spcBef>
                <a:spcPts val="601"/>
              </a:spcBef>
              <a:buClr>
                <a:srgbClr val="c12727"/>
              </a:buClr>
              <a:buSzPct val="85000"/>
              <a:buFont typeface="Impact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mpac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Impact"/>
            </a:endParaRPr>
          </a:p>
          <a:p>
            <a:pPr lvl="3" marL="1371600" algn="ctr">
              <a:spcBef>
                <a:spcPts val="499"/>
              </a:spcBef>
              <a:buClr>
                <a:srgbClr val="996600"/>
              </a:buClr>
              <a:buSzPct val="85000"/>
              <a:buFont typeface="Impact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Impact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22856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Impact"/>
              </a:rPr>
              <a:t>Microsoft PowerPoint </a:t>
            </a:r>
            <a:r>
              <a:rPr b="0" lang="ja-JP" sz="4400" spc="-1" strike="noStrike">
                <a:solidFill>
                  <a:srgbClr val="996600"/>
                </a:solidFill>
                <a:latin typeface="Impact"/>
              </a:rPr>
              <a:t>テスト</a:t>
            </a: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2193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これは </a:t>
            </a: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MS PowerPoint </a:t>
            </a: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ファイルです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996600"/>
                </a:solidFill>
                <a:latin typeface="Impact"/>
              </a:rPr>
              <a:t>1</a:t>
            </a:r>
            <a:r>
              <a:rPr b="0" lang="ja-JP" sz="4400" spc="-1" strike="noStrike">
                <a:solidFill>
                  <a:srgbClr val="996600"/>
                </a:solidFill>
                <a:latin typeface="Impact"/>
              </a:rPr>
              <a:t>ページ目タイトル</a:t>
            </a: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1</a:t>
            </a: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ページ目本文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996600"/>
                </a:solidFill>
                <a:latin typeface="Impact"/>
              </a:rPr>
              <a:t>2</a:t>
            </a:r>
            <a:r>
              <a:rPr b="0" lang="ja-JP" sz="4400" spc="-1" strike="noStrike">
                <a:solidFill>
                  <a:srgbClr val="996600"/>
                </a:solidFill>
                <a:latin typeface="Impact"/>
              </a:rPr>
              <a:t>ページ目タイトル</a:t>
            </a: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2</a:t>
            </a: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ページ目本文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05T10:41:34Z</dcterms:created>
  <dc:creator>著者</dc:creator>
  <dc:description/>
  <dc:language>en-US</dc:language>
  <cp:lastModifiedBy>NaCl</cp:lastModifiedBy>
  <dcterms:modified xsi:type="dcterms:W3CDTF">2005-07-08T02:25:04Z</dcterms:modified>
  <cp:revision>3</cp:revision>
  <dc:subject/>
  <dc:title>タイトル</dc:title>
</cp:coreProperties>
</file>