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B19-0867-48E0-B7A9-D3601DFA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CBF2-6040-46F0-9224-24DA266E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D6E8-C161-405B-A02B-3B5CE574F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D41FC-9254-4023-870A-AAC13450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F69A-EA16-4629-9335-1E1775C9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4D385-9316-4776-ACE8-4E477192D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D16F-FF8F-4D0C-A8CB-C8E025E9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D5A-9265-4F52-9711-583B7E756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A453-0ABC-46A9-A123-9D999D99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C80-E650-4BC3-8FB4-82712664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29F4-3775-4579-B390-E198FAAE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53FA-CF61-4E26-A88F-48001501D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0A89-7646-4DBE-AFE8-BA9B8E253B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straier</a:t>
            </a:r>
            <a:r>
              <a:rPr b="0" lang="ja-JP" sz="3600" spc="-1" strike="noStrike">
                <a:solidFill>
                  <a:srgbClr val="000000"/>
                </a:solidFill>
                <a:latin typeface="Times New Roman"/>
              </a:rPr>
              <a:t>のサンプル文書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-PowerPoint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457200"/>
            <a:ext cx="8153280" cy="55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CE upon a time there were four little Rabbits, and their names w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l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psy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tton-tail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Pet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lived with their Mother in a sand-bank, underneath the root of a very big fir-tre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むかし昔、４匹の子ウサギがいました。彼らの名前は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フロ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モプシー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コットンテイル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そして、ピーターとい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彼らはお母さんと一緒に、とても大きなモミの木の真下にある砂州の中に住んでいました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平林幹雄</dc:creator>
  <dc:description/>
  <dc:language>en-US</dc:language>
  <cp:lastModifiedBy>大岡越前守忠助</cp:lastModifiedBy>
  <dcterms:modified xsi:type="dcterms:W3CDTF">2004-06-09T11:48:00Z</dcterms:modified>
  <cp:revision>1</cp:revision>
  <dc:subject/>
  <dc:title>Estraierのサンプル文書：MS-PowerPoint編</dc:title>
</cp:coreProperties>
</file>