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B83D-C9FB-42D5-A420-76C846583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8588-B512-46D8-8552-A8B0234A1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3EAE-124D-45EB-8F0A-E3D2D942A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8FD9-AD8F-4679-970B-48CC89BF5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B23CF-7114-48DA-A6FE-CD43D82A0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BD79F-91C4-483B-8972-5767366F9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885D8-54F9-43C8-9664-042D23928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D3F86-9E3C-45F0-9E08-0F4C9F174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5B028-6E9C-4F5C-8B5C-A2D70BFCE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D5BC5-494B-4D24-8C98-0AE213372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AA76A-047F-4095-91A4-B933B11C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8364-6394-43C6-B93A-C05BFD1E3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380E7-0E5F-46FF-8D09-C239A11B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DC382-5AB7-4963-A8B6-BC447599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002C0-8A7B-4468-88D9-8FCE71F79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CA874-4E86-4F34-923E-35A760FE4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F2DCA-5813-4F2C-802F-763C35A3E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C4C3-14C9-43F1-891D-32445BDE6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5A7D-9327-4058-9BBC-3D1A7A92F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2062-1310-4531-A322-F9E42A169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FD09-3B5B-479F-AD1D-44626012E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AACA-9BEC-40D6-9A44-606DFEDC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A98A-F3F6-4EB3-9B6D-8A06382D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0ABF-50C1-4D59-943E-9E00D6AB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1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996600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DA394-00E6-4086-BC60-AF5D27016665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53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7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B6A64-210F-4F2B-B0EF-839E87BD461B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Microsoft PowerPoint 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テスト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これは 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MS PowerPoint 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ファイルです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1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2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5T10:41:34Z</dcterms:created>
  <dc:creator>著者</dc:creator>
  <dc:description/>
  <dc:language>en-US</dc:language>
  <cp:lastModifiedBy>NaCl</cp:lastModifiedBy>
  <dcterms:modified xsi:type="dcterms:W3CDTF">2005-07-08T02:25:04Z</dcterms:modified>
  <cp:revision>3</cp:revision>
  <dc:subject/>
  <dc:title>タイトル</dc:title>
</cp:coreProperties>
</file>