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A087-BF93-4F22-90C7-F45FC3669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B264-74C3-4493-9581-9EDB6D52D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4CB7-FB6F-47B0-8BC9-959914A68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3D01-3071-4815-8225-A68777039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F95A-0D2C-4672-AF31-9B3FAD362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6116-13C5-4492-9D03-20C9FC923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6C27-8720-4D82-A3CB-F71C439D0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0507-BC12-4EAB-8DB7-949D88AA7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8335-EBFD-441A-9795-C22AAB05D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3A61-F68B-48D8-8221-AE70529E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AF7B-D5BE-4F3B-9D07-91DC47CF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09B5-CADC-49B0-95C5-F3FB1E56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57DF6-1E5C-473A-8FA1-7C1FE75E586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raier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のサンプル文書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-PowerPoi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7200"/>
            <a:ext cx="81532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CE upon a time there were four little Rabbits, and their names w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tton-tai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Pe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lived with their Mother in a sand-bank, underneath the root of a very big fir-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むかし昔、４匹の子ウサギがいました。彼らの名前は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フロ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モ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コットンテイル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そして、ピーターとい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彼らはお母さんと一緒に、とても大きなモミの木の真下にある砂州の中に住んで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平林幹雄</dc:creator>
  <dc:description/>
  <dc:language>en-US</dc:language>
  <cp:lastModifiedBy>大岡越前守忠助</cp:lastModifiedBy>
  <dcterms:modified xsi:type="dcterms:W3CDTF">2004-06-09T11:48:00Z</dcterms:modified>
  <cp:revision>1</cp:revision>
  <dc:subject/>
  <dc:title>Estraierのサンプル文書：MS-PowerPoint編</dc:title>
</cp:coreProperties>
</file>